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1"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move the slide</a:t>
            </a:r>
            <a:endParaRPr b="0" lang="en-US" sz="3200" spc="-1" strike="noStrike">
              <a:solidFill>
                <a:srgbClr val="ffffff"/>
              </a:solidFill>
              <a:latin typeface="Calibri Light"/>
            </a:endParaRPr>
          </a:p>
        </p:txBody>
      </p:sp>
      <p:sp>
        <p:nvSpPr>
          <p:cNvPr id="76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4"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5"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A831-9CF5-4E02-9718-33E65DB20E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17640" y="744480"/>
            <a:ext cx="4962600" cy="3722760"/>
          </a:xfrm>
          <a:prstGeom prst="rect">
            <a:avLst/>
          </a:prstGeom>
          <a:ln w="0">
            <a:noFill/>
          </a:ln>
        </p:spPr>
      </p:sp>
      <p:sp>
        <p:nvSpPr>
          <p:cNvPr id="7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35D0-E2CB-4A30-B6D3-CC175355504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17640" y="744480"/>
            <a:ext cx="4962600" cy="3722760"/>
          </a:xfrm>
          <a:prstGeom prst="rect">
            <a:avLst/>
          </a:prstGeom>
          <a:ln w="0">
            <a:noFill/>
          </a:ln>
        </p:spPr>
      </p:sp>
      <p:sp>
        <p:nvSpPr>
          <p:cNvPr id="7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A639-A910-4140-B8A9-5D077AA6CC93}"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485B2-F17C-479D-AA40-429FC19E8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887DD-A1C9-4955-97C7-81A1B9508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4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447487-C83C-4C36-B161-57CF8B76E5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E623C7-D712-4A6D-9280-48D309C663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776897-E0EC-403C-AA09-38B2CB3690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F8D56-F001-4404-985B-1E0EE65DB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005C0C-07F3-44BA-B36E-2D206B54D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57BD3-A1B5-45E3-86B1-58C686208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6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21B994-59E1-47A6-A6E8-F11FD1935C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6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798C36-612C-47DC-A8FC-1832290EFC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7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F4A5DB-1BB0-447D-B4FE-3E31DD76FA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D9A967-9CA6-4D06-9A8C-2BC0E9C93B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D5EB7-5EF6-438B-9AAC-978060363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AB711F-7EA8-488F-B454-5CEBEFD8DA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3716BB-95CF-4828-9F52-8550B68325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8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FEEFD5-9CB1-4DC2-A59A-ED714B848F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18901D-6D17-447C-819E-61B9C19A08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9BE9B2-CFB7-4A22-911B-59F1685EDA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9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BA4444-9CDE-4AFD-84AB-A7CDB6E153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9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54626C-AEAB-4FA3-A1E2-A841F3DA69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560795-A5CF-4385-B6A3-C01D47482D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487F4F-C95F-4132-B41C-0901B9214A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D2CB94-3533-4A05-960F-4D9246D42C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70634-A6B6-4EB1-B353-9B5DA9286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1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500C45-ED17-4D40-82E9-EE79F982F1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7BE72E-174F-4DCB-B55D-5E13434BEF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2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C7A731-5A64-4B4E-969F-B9DF6E9259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2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F653E2-26CB-4807-BB1B-D4427186B5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0AAB6B-8FC5-4BBF-B515-05BDA9A30C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320264-A6BE-430A-9CC4-749319A44C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EFF2E1-6523-4B35-9E18-FDCFACEAFD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4D9F00-8D8C-4253-8168-A303EF07FC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F3E842-26EB-4DF3-B1F6-49BE60E4E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4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59B42E-B255-434D-8824-4A422839FE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83CD5-9192-48D1-AF1E-19C492E98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4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C39E9D-B299-4C21-BB5A-215B8CF2A6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5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43736E-0B57-4172-B10C-AE564017E7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5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FE2E18-7D56-4530-8391-2BA7B2CD89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FEEE576-A17E-4143-956F-0FDAEF953D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6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0F38D0-8D3A-489A-87E7-CD83B08958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4DD889-2C4E-406F-978D-D46BB5E68D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1697A7-B198-4E5C-9B5F-5651519EA3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E4194E-EEAC-4A79-9E09-9521EE2DD6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F3F970-6FB5-4FC9-BF2F-D17E0CAE07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9878BF-0AE8-4177-8003-04C841CA5A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C9EA0-5272-407C-80AA-55F8C923C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9775B5-BD5D-487A-9738-C9BFD05A5D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38A5DA-BD33-4B7B-9CA6-77B095C9D4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88CE51-6AA2-45F1-80ED-359DC98FAD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9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C3D717-E347-4A54-80DD-6B9194497C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9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60F476-C653-44DB-BA82-F31F5DAE4F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0F6604D-A8BA-4ACD-B0B7-3200DB15FC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F50D72-EEBE-4A0F-9651-77604F7CBB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3D1F7F-F8E5-46EA-BF5F-FEE67B8AD1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C09025-404E-4ECC-9580-1C587E7FBC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C96724-7157-463B-992F-CBF832AC38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E0637-25B7-44A9-AF86-697AD317F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9B7818-3B63-45D8-9935-B62D8ECFEE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33DD43-F36B-4CA4-9ED4-C115516F0B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853DD8-23F6-4D8F-A0CD-33CF2C8356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DFBFF2-C784-4305-B814-2633EF939A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3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2D9E6E-0E5F-452A-ACC1-E475B6947B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3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B77E3E-B653-4FE3-B841-87A8B85D4E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4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09DF04-748A-49A2-A0B2-BC885D1D98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B83DF8-EE63-4241-8E3E-C3DF416A638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7D84EC-4BCD-42C5-9AC7-5026501956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130FC7-53BE-4DAA-8CEC-FC03A6DA1A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35E54-FCC1-42CE-A80E-268362FB0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5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73C041-A727-4512-BC49-832C2B99A0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E0DEC5-6509-4D9B-A218-D9BC99AB84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CAFEA2-03C2-4E2B-B6B5-0C9CA12260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6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AA5C44-7245-43F2-BA6E-AA9A9BD228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6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BC15F0-2FDF-4A5A-829E-B888A59EED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42D8A8-C364-4961-9B65-D8D8212255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75B9E4-D007-45D3-A1BA-D1315E5498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B414C34-AF17-4C14-AE08-E047EB486E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8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981A1B-CAD8-4E74-9DF7-24BEBDA37E3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0380C89-43C8-4233-83BC-FB2DC85E1A9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857B9-81D4-4FDC-9625-498DED55D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9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82F56C4-9EFB-4358-A7BA-033C8EA671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D058F7-B2CA-48E0-8A43-92727A233D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4FC560-E9AC-4C85-92A4-5261CEEFD8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9AE1F8-0D9D-434E-A5B0-9ACB8973CBE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83E558-EE74-4D47-9722-FFCAA64234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553FBA-7B13-4F9B-9458-25CC440893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C2A278-E624-44BB-A1F3-E1B5DD2AF0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5E2891-C0DC-40C8-91A8-DF3B5E25D6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F67CCD-1DD3-4BAB-AE00-39ADBD5F7B3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2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3B3B862-984D-4CB3-AA15-C265C3D0979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E03B8-82A2-49D9-9EC1-F5F25E9FC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2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45DCD52-94D7-4CF5-830E-EC112FBA849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036AC53-3382-4097-A7D6-257F98C65FA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A14413-C92A-48B6-BD67-ED5226AB1B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C56046C-C6FB-44EA-95EA-09EC73AAE0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4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96BFBE-789C-4560-B8AC-93B0975F19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B9907CA-A747-4445-A13A-EFD6201A07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7605E0-9A27-499E-9AF8-210E353AAA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3353D8-0111-4C1A-A3E3-1A1A851614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BD18BE-9520-4816-8F3C-6B09755F33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06A01F-8051-4D1F-B9A5-080061C54A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FD423-B6E8-4CB4-B779-C1BD04335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7075BEB-32D0-4596-B588-201D98FD22C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815C235-12D8-4E2C-B5C5-66D69959E8C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1D8B32F-3FAB-47A9-B13E-35B78581700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D3F7B2A-6B6F-4111-9817-5F6B18FD1C4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EBF6A56-F3C5-44DD-963E-C312B37D41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237AA05-9811-4C60-AA4A-461AD820BF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359787-707C-458A-82EC-2808038AE8F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8E57FA-FDDA-45C8-A63C-C4234570F31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9C1172-E2E6-4C44-B758-AA131F9FAF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148A31-19F3-41E4-BEC7-3AA6B19E23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D62CA-5EDE-4FF1-94F4-AA0F8864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9CBFC-7A27-4F22-9FAB-0BD2FC068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1841FE-12E0-47EB-A4F3-3577D150143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7CF2E6-86A9-4BA7-B258-D46EB05054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0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6C3A07-E078-4F4D-8DDF-58BDA93D7E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0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CD216B-6351-408C-9F32-48ECD0B444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1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D090E7F-431D-4378-89F8-2712242FB7D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5C1B470-1C07-4FF8-8D68-6B80A77443A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8F74F7-CD11-4285-9498-1E2B6E758E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DE223AB-C5A2-46BF-A55F-DA53805810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2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626E27D-FD7C-4E05-A56C-3F2D463FCE8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AAEF014-B7FA-4A68-AF07-DE83E78A0B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C897F-B2C9-40F7-923A-8D15AC3EF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C5DBB4D-E230-4146-95DF-3C7135554A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3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920AEA-0F77-423B-AE1B-93601CA1B6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3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325296-6225-4D31-8A3A-BB97412B90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54CE6F-1717-4896-B646-8EA6638847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F83E40C-F74F-4658-95E3-87D593E425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D227F97-994C-4421-A9FE-76CF1B861C4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5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5A6F648-1317-46E2-A09F-3C65A8938AC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344BD-7ED5-4EC7-AE45-467E69A76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BE7C4-D9C6-4DD0-B468-3094EFA7F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267C1-A2A4-474C-B877-703C9541F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1E578-1FD2-4D79-BFD6-0E0D0630BB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30CEC-09AD-4D63-8BB3-33754FA59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54269-877A-4A52-913D-10B69D81A2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0E193E-699D-4633-9764-E12F605C9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660A92-0FF2-4D44-9B71-AC0B25B4A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C33B7-87A9-4F17-AA70-1A2BEEE96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4710A-4B86-47F9-B24F-78CD2E026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AC2B2-018C-4288-B3D1-72298787C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34687-4E69-469B-8D04-A8EA91C6F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F0D95-66B3-43CA-9B4B-975664F6F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67211-516D-444F-A05C-0922687FB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A881A-2778-412F-BB2B-1E02D1C48C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887745-4675-47BB-8BD3-139B96B33E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D050CA-1951-4C94-A8F9-A1A5A54A10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63A48-5E6E-4D28-8F54-0E60B2F31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6ADF1-262E-4C72-8368-D299135B1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4907B-8D3D-4B17-B698-95CD22ECF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E2020-31A9-4D4D-8890-CC9F4749E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BA372-FF49-4E73-99C0-663492685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8E322-2333-446D-BD5D-BB3CFE35F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24AFF-0855-4C83-A4BE-07A7A18DB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17317-94AA-458C-8CE8-C99386562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1036F-5AC5-4566-8A0B-735A89F14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DCA1F-9CA3-4742-9F6B-8101DF4E2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B66B2B-F04D-456C-AC80-F016DDF1E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6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2AE8DC-79E7-4878-A84C-96CF376CD5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8875B4-801D-4432-A629-86675F5198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1F0F7-BC38-4AD8-A1C0-FF46A1524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7C9A0-9FAB-45EC-9F28-7BFFB7F4C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1BC615-67CD-4E16-818C-8D89AC4DA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550B0-8AAD-469B-9FA4-38469F83D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E829B6-E1EE-4E01-9DB8-F5CAEA345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631E0A-1EA6-478C-A4ED-23A17ADA10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8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1E933-22D5-4E82-8E7C-BA208D418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8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E23A1-CF22-4022-8349-8625C03C2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7A533-94D3-4FA0-97F4-5E67BA5D5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454DF8-0EA7-40D2-ADF7-61320B2F4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0025B-BD97-4E45-9871-EE0A0299B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B5EF1-F74B-490E-80E7-339E24E3B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0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87CD96-5FBE-4BEC-9BDC-C76714FC27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22699A-5EAB-4F0E-9545-DD2BB1F57C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1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490B3-8065-4F6B-A805-CBA1C712F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1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4E4E2-78E0-4A04-84F1-A3B245A09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BD594-EAFC-4762-8B8C-97B5824E6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909BE5-BF7C-4F6A-8629-67CC803F5F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D2DF80-E998-4C13-AD64-A3450EEB6F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278EB-ACC5-4456-BD0D-D42D8870F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F0B8D-85ED-434D-990A-FDB018187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66C15-BCDD-4610-9F97-C1ED580C6D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C4D66-14A9-4668-92CE-D201A63B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B00D84-FEF9-49AF-8F0F-C1A1F2997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4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1A6542-16F7-436A-BAF9-F97FCDE634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4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5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2FF42-3C6E-40C2-84CE-8731C93F1F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A37E9A-B109-49B1-A2AD-8771767CE8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5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0395BB-A06D-484F-ABB5-01008969BE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1716DB-2897-4B39-AFDA-43800272D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9FD36-B4F8-4577-9C85-E239FC8C2A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A2D100-3E0D-46F3-850E-137245656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2723D3-A8EB-4521-AB77-D0C140501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0534E-8084-46D1-B39E-F5A5E465B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3C8A-552C-4223-890A-CCB669333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2008A-E294-49BF-A9B6-119F9F704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AA28A-DF1C-4B69-AA8D-052F89284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57757-4C63-4A99-B0C0-64E30CB61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8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5A66E0-2776-4D25-8F77-0DB8A3B860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8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325A46-84F5-4B12-B87E-2BE7554F9B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A15690-8501-433F-9B35-4D400F2BF8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F2310C-5D10-470B-9DD2-1254FB2A69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9CA7D-5610-4E4E-8D0D-83B90CBD48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0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4A9A7-E27D-401B-9407-4DFAAD4A3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5BFC60-CF88-4CD2-B36C-308E8D975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CED23-89DF-45DF-BA5B-BD8B542DB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BC5FEE-E9C5-4D65-AF26-4236B45894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116D0-82F0-4CD2-9609-E66F104AB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1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41322-E042-4C6C-9018-52FF333C5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1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2AF6B-139E-4101-B401-9986F69DD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9140A1-01E7-4939-91EB-1D6718FE9E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740FC4-57E7-4AD7-BC98-4069AE9FCD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C92231-ED7D-4DE2-8730-7B574FB5FA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12F9C2-5A8C-4096-80FF-9A77A737D7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77C80D-4C07-4770-A2B2-DF13A802E5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05D412-F105-4A66-9E14-E38CFB570D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 name="PlaceHolder 3"/>
          <p:cNvSpPr>
            <a:spLocks noGrp="1"/>
          </p:cNvSpPr>
          <p:nvPr>
            <p:ph type="dt" idx="1"/>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B810-11F4-4AE1-AA8D-0E41D0F7F490}"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10" descr="Celestia-R1---OverlayContentSD.png"/>
          <p:cNvPicPr/>
          <p:nvPr/>
        </p:nvPicPr>
        <p:blipFill>
          <a:blip r:embed="rId3"/>
          <a:stretch/>
        </p:blipFill>
        <p:spPr>
          <a:xfrm>
            <a:off x="14400" y="0"/>
            <a:ext cx="9118440" cy="6858000"/>
          </a:xfrm>
          <a:prstGeom prst="rect">
            <a:avLst/>
          </a:prstGeom>
          <a:ln w="0">
            <a:noFill/>
          </a:ln>
        </p:spPr>
      </p:pic>
      <p:sp>
        <p:nvSpPr>
          <p:cNvPr id="37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37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380" name="PlaceHolder 3"/>
          <p:cNvSpPr>
            <a:spLocks noGrp="1"/>
          </p:cNvSpPr>
          <p:nvPr>
            <p:ph type="dt" idx="28"/>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4"/>
          <p:cNvSpPr>
            <a:spLocks noGrp="1"/>
          </p:cNvSpPr>
          <p:nvPr>
            <p:ph type="ftr" idx="29"/>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382" name="PlaceHolder 5"/>
          <p:cNvSpPr>
            <a:spLocks noGrp="1"/>
          </p:cNvSpPr>
          <p:nvPr>
            <p:ph type="sldNum" idx="30"/>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ED16-37CC-4919-9C30-9CEA6CDA07DD}"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9" descr="Celestia-R1---OverlayContentSD.png"/>
          <p:cNvPicPr/>
          <p:nvPr/>
        </p:nvPicPr>
        <p:blipFill>
          <a:blip r:embed="rId3"/>
          <a:stretch/>
        </p:blipFill>
        <p:spPr>
          <a:xfrm>
            <a:off x="14400" y="0"/>
            <a:ext cx="9118440" cy="6858000"/>
          </a:xfrm>
          <a:prstGeom prst="rect">
            <a:avLst/>
          </a:prstGeom>
          <a:ln w="0">
            <a:noFill/>
          </a:ln>
        </p:spPr>
      </p:pic>
      <p:sp>
        <p:nvSpPr>
          <p:cNvPr id="4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2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22" name="PlaceHolder 3"/>
          <p:cNvSpPr>
            <a:spLocks noGrp="1"/>
          </p:cNvSpPr>
          <p:nvPr>
            <p:ph type="dt" idx="31"/>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PlaceHolder 4"/>
          <p:cNvSpPr>
            <a:spLocks noGrp="1"/>
          </p:cNvSpPr>
          <p:nvPr>
            <p:ph type="ftr" idx="32"/>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24" name="PlaceHolder 5"/>
          <p:cNvSpPr>
            <a:spLocks noGrp="1"/>
          </p:cNvSpPr>
          <p:nvPr>
            <p:ph type="sldNum" idx="33"/>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C4EE-989B-425D-9146-B6B9401D6EF6}"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1" name="Picture 6" descr="Celestia-R1---OverlayContentSD.png"/>
          <p:cNvPicPr/>
          <p:nvPr/>
        </p:nvPicPr>
        <p:blipFill>
          <a:blip r:embed="rId3"/>
          <a:stretch/>
        </p:blipFill>
        <p:spPr>
          <a:xfrm>
            <a:off x="14400" y="0"/>
            <a:ext cx="9118440" cy="6858000"/>
          </a:xfrm>
          <a:prstGeom prst="rect">
            <a:avLst/>
          </a:prstGeom>
          <a:ln w="0">
            <a:noFill/>
          </a:ln>
        </p:spPr>
      </p:pic>
      <p:sp>
        <p:nvSpPr>
          <p:cNvPr id="4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6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64" name="PlaceHolder 3"/>
          <p:cNvSpPr>
            <a:spLocks noGrp="1"/>
          </p:cNvSpPr>
          <p:nvPr>
            <p:ph type="dt" idx="34"/>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PlaceHolder 4"/>
          <p:cNvSpPr>
            <a:spLocks noGrp="1"/>
          </p:cNvSpPr>
          <p:nvPr>
            <p:ph type="ftr" idx="35"/>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66" name="PlaceHolder 5"/>
          <p:cNvSpPr>
            <a:spLocks noGrp="1"/>
          </p:cNvSpPr>
          <p:nvPr>
            <p:ph type="sldNum" idx="36"/>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5E4A-2C31-4170-8C3C-ED9AB73C24F0}"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3" name="Picture 16" descr="Celestia-R1---OverlayContentSD.png"/>
          <p:cNvPicPr/>
          <p:nvPr/>
        </p:nvPicPr>
        <p:blipFill>
          <a:blip r:embed="rId3"/>
          <a:stretch/>
        </p:blipFill>
        <p:spPr>
          <a:xfrm>
            <a:off x="14400" y="0"/>
            <a:ext cx="9118440" cy="6858000"/>
          </a:xfrm>
          <a:prstGeom prst="rect">
            <a:avLst/>
          </a:prstGeom>
          <a:ln w="0">
            <a:noFill/>
          </a:ln>
        </p:spPr>
      </p:pic>
      <p:sp>
        <p:nvSpPr>
          <p:cNvPr id="504" name="TextBox 7"/>
          <p:cNvSpPr/>
          <p:nvPr/>
        </p:nvSpPr>
        <p:spPr>
          <a:xfrm>
            <a:off x="422280" y="71748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05" name="TextBox 8"/>
          <p:cNvSpPr/>
          <p:nvPr/>
        </p:nvSpPr>
        <p:spPr>
          <a:xfrm>
            <a:off x="7736040" y="275112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0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08" name="PlaceHolder 3"/>
          <p:cNvSpPr>
            <a:spLocks noGrp="1"/>
          </p:cNvSpPr>
          <p:nvPr>
            <p:ph type="dt" idx="37"/>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PlaceHolder 4"/>
          <p:cNvSpPr>
            <a:spLocks noGrp="1"/>
          </p:cNvSpPr>
          <p:nvPr>
            <p:ph type="ftr" idx="38"/>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10" name="PlaceHolder 5"/>
          <p:cNvSpPr>
            <a:spLocks noGrp="1"/>
          </p:cNvSpPr>
          <p:nvPr>
            <p:ph type="sldNum" idx="39"/>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BE9E-1E7B-4322-B8F0-1BFDCCA3B158}"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7" name="Picture 6" descr="Celestia-R1---OverlayContentSD.png"/>
          <p:cNvPicPr/>
          <p:nvPr/>
        </p:nvPicPr>
        <p:blipFill>
          <a:blip r:embed="rId3"/>
          <a:stretch/>
        </p:blipFill>
        <p:spPr>
          <a:xfrm>
            <a:off x="14400" y="0"/>
            <a:ext cx="9118440" cy="6858000"/>
          </a:xfrm>
          <a:prstGeom prst="rect">
            <a:avLst/>
          </a:prstGeom>
          <a:ln w="0">
            <a:noFill/>
          </a:ln>
        </p:spPr>
      </p:pic>
      <p:sp>
        <p:nvSpPr>
          <p:cNvPr id="5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4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50" name="PlaceHolder 3"/>
          <p:cNvSpPr>
            <a:spLocks noGrp="1"/>
          </p:cNvSpPr>
          <p:nvPr>
            <p:ph type="dt" idx="40"/>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4"/>
          <p:cNvSpPr>
            <a:spLocks noGrp="1"/>
          </p:cNvSpPr>
          <p:nvPr>
            <p:ph type="ftr" idx="41"/>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52" name="PlaceHolder 5"/>
          <p:cNvSpPr>
            <a:spLocks noGrp="1"/>
          </p:cNvSpPr>
          <p:nvPr>
            <p:ph type="sldNum" idx="42"/>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9814-28CD-4964-977B-A05AD7812038}"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9" name="Picture 12" descr="Celestia-R1---OverlayContentSD.png"/>
          <p:cNvPicPr/>
          <p:nvPr/>
        </p:nvPicPr>
        <p:blipFill>
          <a:blip r:embed="rId3"/>
          <a:stretch/>
        </p:blipFill>
        <p:spPr>
          <a:xfrm>
            <a:off x="14400" y="0"/>
            <a:ext cx="9118440" cy="6858000"/>
          </a:xfrm>
          <a:prstGeom prst="rect">
            <a:avLst/>
          </a:prstGeom>
          <a:ln w="0">
            <a:noFill/>
          </a:ln>
        </p:spPr>
      </p:pic>
      <p:sp>
        <p:nvSpPr>
          <p:cNvPr id="590" name="TextBox 7"/>
          <p:cNvSpPr/>
          <p:nvPr/>
        </p:nvSpPr>
        <p:spPr>
          <a:xfrm>
            <a:off x="422280" y="71748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91" name="TextBox 8"/>
          <p:cNvSpPr/>
          <p:nvPr/>
        </p:nvSpPr>
        <p:spPr>
          <a:xfrm>
            <a:off x="7736040" y="275112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9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94" name="PlaceHolder 3"/>
          <p:cNvSpPr>
            <a:spLocks noGrp="1"/>
          </p:cNvSpPr>
          <p:nvPr>
            <p:ph type="dt" idx="43"/>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4"/>
          <p:cNvSpPr>
            <a:spLocks noGrp="1"/>
          </p:cNvSpPr>
          <p:nvPr>
            <p:ph type="ftr" idx="44"/>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96" name="PlaceHolder 5"/>
          <p:cNvSpPr>
            <a:spLocks noGrp="1"/>
          </p:cNvSpPr>
          <p:nvPr>
            <p:ph type="sldNum" idx="45"/>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2A05-2520-4A68-ABC4-17A3B1836C7C}"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3" name="Picture 7" descr="Celestia-R1---OverlayContentSD.png"/>
          <p:cNvPicPr/>
          <p:nvPr/>
        </p:nvPicPr>
        <p:blipFill>
          <a:blip r:embed="rId3"/>
          <a:stretch/>
        </p:blipFill>
        <p:spPr>
          <a:xfrm>
            <a:off x="14400" y="0"/>
            <a:ext cx="9118440" cy="6858000"/>
          </a:xfrm>
          <a:prstGeom prst="rect">
            <a:avLst/>
          </a:prstGeom>
          <a:ln w="0">
            <a:noFill/>
          </a:ln>
        </p:spPr>
      </p:pic>
      <p:sp>
        <p:nvSpPr>
          <p:cNvPr id="6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63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636" name="PlaceHolder 3"/>
          <p:cNvSpPr>
            <a:spLocks noGrp="1"/>
          </p:cNvSpPr>
          <p:nvPr>
            <p:ph type="dt" idx="46"/>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4"/>
          <p:cNvSpPr>
            <a:spLocks noGrp="1"/>
          </p:cNvSpPr>
          <p:nvPr>
            <p:ph type="ftr" idx="47"/>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638" name="PlaceHolder 5"/>
          <p:cNvSpPr>
            <a:spLocks noGrp="1"/>
          </p:cNvSpPr>
          <p:nvPr>
            <p:ph type="sldNum" idx="48"/>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F0EA-71BD-47C3-B1FC-0530A3C61482}"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5" name="Picture 6" descr="Celestia-R1---OverlayContentSD.png"/>
          <p:cNvPicPr/>
          <p:nvPr/>
        </p:nvPicPr>
        <p:blipFill>
          <a:blip r:embed="rId3"/>
          <a:stretch/>
        </p:blipFill>
        <p:spPr>
          <a:xfrm>
            <a:off x="14400" y="0"/>
            <a:ext cx="9118440" cy="6858000"/>
          </a:xfrm>
          <a:prstGeom prst="rect">
            <a:avLst/>
          </a:prstGeom>
          <a:ln w="0">
            <a:noFill/>
          </a:ln>
        </p:spPr>
      </p:pic>
      <p:sp>
        <p:nvSpPr>
          <p:cNvPr id="6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67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678" name="PlaceHolder 3"/>
          <p:cNvSpPr>
            <a:spLocks noGrp="1"/>
          </p:cNvSpPr>
          <p:nvPr>
            <p:ph type="dt" idx="49"/>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4"/>
          <p:cNvSpPr>
            <a:spLocks noGrp="1"/>
          </p:cNvSpPr>
          <p:nvPr>
            <p:ph type="ftr" idx="50"/>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680" name="PlaceHolder 5"/>
          <p:cNvSpPr>
            <a:spLocks noGrp="1"/>
          </p:cNvSpPr>
          <p:nvPr>
            <p:ph type="sldNum" idx="51"/>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AFEF-12CA-46AC-94CF-C2BE839485A2}"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7" name="Picture 6" descr="Celestia-R1---OverlayContentSD.png"/>
          <p:cNvPicPr/>
          <p:nvPr/>
        </p:nvPicPr>
        <p:blipFill>
          <a:blip r:embed="rId3"/>
          <a:stretch/>
        </p:blipFill>
        <p:spPr>
          <a:xfrm>
            <a:off x="14400" y="0"/>
            <a:ext cx="9118440" cy="6858000"/>
          </a:xfrm>
          <a:prstGeom prst="rect">
            <a:avLst/>
          </a:prstGeom>
          <a:ln w="0">
            <a:noFill/>
          </a:ln>
        </p:spPr>
      </p:pic>
      <p:sp>
        <p:nvSpPr>
          <p:cNvPr id="7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71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720" name="PlaceHolder 3"/>
          <p:cNvSpPr>
            <a:spLocks noGrp="1"/>
          </p:cNvSpPr>
          <p:nvPr>
            <p:ph type="dt" idx="52"/>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PlaceHolder 4"/>
          <p:cNvSpPr>
            <a:spLocks noGrp="1"/>
          </p:cNvSpPr>
          <p:nvPr>
            <p:ph type="ftr" idx="53"/>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722" name="PlaceHolder 5"/>
          <p:cNvSpPr>
            <a:spLocks noGrp="1"/>
          </p:cNvSpPr>
          <p:nvPr>
            <p:ph type="sldNum" idx="54"/>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9390-C3D8-4861-BA9A-6BCFF497B591}"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Celestia-R1---OverlayTitleSD.png"/>
          <p:cNvPicPr/>
          <p:nvPr/>
        </p:nvPicPr>
        <p:blipFill>
          <a:blip r:embed="rId3"/>
          <a:stretch/>
        </p:blipFill>
        <p:spPr>
          <a:xfrm>
            <a:off x="0" y="0"/>
            <a:ext cx="7397640" cy="6858000"/>
          </a:xfrm>
          <a:prstGeom prst="rect">
            <a:avLst/>
          </a:prstGeom>
          <a:ln w="0">
            <a:noFill/>
          </a:ln>
        </p:spPr>
      </p:pic>
      <p:sp>
        <p:nvSpPr>
          <p:cNvPr id="4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4" name="PlaceHolder 3"/>
          <p:cNvSpPr>
            <a:spLocks noGrp="1"/>
          </p:cNvSpPr>
          <p:nvPr>
            <p:ph type="dt" idx="4"/>
          </p:nvPr>
        </p:nvSpPr>
        <p:spPr>
          <a:xfrm>
            <a:off x="67514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742840" y="5870520"/>
            <a:ext cx="39322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6" name="PlaceHolder 5"/>
          <p:cNvSpPr>
            <a:spLocks noGrp="1"/>
          </p:cNvSpPr>
          <p:nvPr>
            <p:ph type="sldNum" idx="6"/>
          </p:nvPr>
        </p:nvSpPr>
        <p:spPr>
          <a:xfrm>
            <a:off x="80406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20A8-533E-460F-A480-297B1129AA94}"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7" descr="Celestia-R1---OverlayContentSD.png"/>
          <p:cNvPicPr/>
          <p:nvPr/>
        </p:nvPicPr>
        <p:blipFill>
          <a:blip r:embed="rId3"/>
          <a:stretch/>
        </p:blipFill>
        <p:spPr>
          <a:xfrm>
            <a:off x="14400" y="0"/>
            <a:ext cx="9118440" cy="6858000"/>
          </a:xfrm>
          <a:prstGeom prst="rect">
            <a:avLst/>
          </a:prstGeom>
          <a:ln w="0">
            <a:noFill/>
          </a:ln>
        </p:spPr>
      </p:pic>
      <p:sp>
        <p:nvSpPr>
          <p:cNvPr id="8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8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86" name="PlaceHolder 3"/>
          <p:cNvSpPr>
            <a:spLocks noGrp="1"/>
          </p:cNvSpPr>
          <p:nvPr>
            <p:ph type="dt" idx="7"/>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88" name="PlaceHolder 5"/>
          <p:cNvSpPr>
            <a:spLocks noGrp="1"/>
          </p:cNvSpPr>
          <p:nvPr>
            <p:ph type="sldNum" idx="9"/>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D4A8-2261-49BB-8CB9-AC6C258C5558}"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7" descr="Celestia-R1---OverlayContentSD.png"/>
          <p:cNvPicPr/>
          <p:nvPr/>
        </p:nvPicPr>
        <p:blipFill>
          <a:blip r:embed="rId3"/>
          <a:stretch/>
        </p:blipFill>
        <p:spPr>
          <a:xfrm>
            <a:off x="14400" y="0"/>
            <a:ext cx="9118440" cy="6858000"/>
          </a:xfrm>
          <a:prstGeom prst="rect">
            <a:avLst/>
          </a:prstGeom>
          <a:ln w="0">
            <a:noFill/>
          </a:ln>
        </p:spPr>
      </p:pic>
      <p:sp>
        <p:nvSpPr>
          <p:cNvPr id="1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2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128" name="PlaceHolder 3"/>
          <p:cNvSpPr>
            <a:spLocks noGrp="1"/>
          </p:cNvSpPr>
          <p:nvPr>
            <p:ph type="dt" idx="10"/>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130" name="PlaceHolder 5"/>
          <p:cNvSpPr>
            <a:spLocks noGrp="1"/>
          </p:cNvSpPr>
          <p:nvPr>
            <p:ph type="sldNum" idx="12"/>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AFE1-C7B3-438D-B005-E2A5F13FEBD7}"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Picture 9" descr="Celestia-R1---OverlayContentSD.png"/>
          <p:cNvPicPr/>
          <p:nvPr/>
        </p:nvPicPr>
        <p:blipFill>
          <a:blip r:embed="rId3"/>
          <a:stretch/>
        </p:blipFill>
        <p:spPr>
          <a:xfrm>
            <a:off x="14400" y="0"/>
            <a:ext cx="9118440" cy="6858000"/>
          </a:xfrm>
          <a:prstGeom prst="rect">
            <a:avLst/>
          </a:prstGeom>
          <a:ln w="0">
            <a:noFill/>
          </a:ln>
        </p:spPr>
      </p:pic>
      <p:sp>
        <p:nvSpPr>
          <p:cNvPr id="1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6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170" name="PlaceHolder 3"/>
          <p:cNvSpPr>
            <a:spLocks noGrp="1"/>
          </p:cNvSpPr>
          <p:nvPr>
            <p:ph type="dt" idx="13"/>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4"/>
          <p:cNvSpPr>
            <a:spLocks noGrp="1"/>
          </p:cNvSpPr>
          <p:nvPr>
            <p:ph type="ftr" idx="14"/>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172" name="PlaceHolder 5"/>
          <p:cNvSpPr>
            <a:spLocks noGrp="1"/>
          </p:cNvSpPr>
          <p:nvPr>
            <p:ph type="sldNum" idx="15"/>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32E0-F0D6-42B1-8004-D2F08A9EB610}"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9" name="Picture 12" descr="Celestia-R1---OverlayContentSD.png"/>
          <p:cNvPicPr/>
          <p:nvPr/>
        </p:nvPicPr>
        <p:blipFill>
          <a:blip r:embed="rId3"/>
          <a:stretch/>
        </p:blipFill>
        <p:spPr>
          <a:xfrm>
            <a:off x="14400" y="0"/>
            <a:ext cx="9118440" cy="6858000"/>
          </a:xfrm>
          <a:prstGeom prst="rect">
            <a:avLst/>
          </a:prstGeom>
          <a:ln w="0">
            <a:noFill/>
          </a:ln>
        </p:spPr>
      </p:pic>
      <p:sp>
        <p:nvSpPr>
          <p:cNvPr id="2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1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12" name="PlaceHolder 3"/>
          <p:cNvSpPr>
            <a:spLocks noGrp="1"/>
          </p:cNvSpPr>
          <p:nvPr>
            <p:ph type="dt" idx="16"/>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4"/>
          <p:cNvSpPr>
            <a:spLocks noGrp="1"/>
          </p:cNvSpPr>
          <p:nvPr>
            <p:ph type="ftr" idx="17"/>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14" name="PlaceHolder 5"/>
          <p:cNvSpPr>
            <a:spLocks noGrp="1"/>
          </p:cNvSpPr>
          <p:nvPr>
            <p:ph type="sldNum" idx="18"/>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C840-0CA8-4129-86E9-68E26D00EB66}"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1" name="Picture 5" descr="Celestia-R1---OverlayContentSD.png"/>
          <p:cNvPicPr/>
          <p:nvPr/>
        </p:nvPicPr>
        <p:blipFill>
          <a:blip r:embed="rId3"/>
          <a:stretch/>
        </p:blipFill>
        <p:spPr>
          <a:xfrm>
            <a:off x="14400" y="0"/>
            <a:ext cx="9118440" cy="6858000"/>
          </a:xfrm>
          <a:prstGeom prst="rect">
            <a:avLst/>
          </a:prstGeom>
          <a:ln w="0">
            <a:noFill/>
          </a:ln>
        </p:spPr>
      </p:pic>
      <p:sp>
        <p:nvSpPr>
          <p:cNvPr id="2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5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54" name="PlaceHolder 3"/>
          <p:cNvSpPr>
            <a:spLocks noGrp="1"/>
          </p:cNvSpPr>
          <p:nvPr>
            <p:ph type="dt" idx="19"/>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4"/>
          <p:cNvSpPr>
            <a:spLocks noGrp="1"/>
          </p:cNvSpPr>
          <p:nvPr>
            <p:ph type="ftr" idx="20"/>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56" name="PlaceHolder 5"/>
          <p:cNvSpPr>
            <a:spLocks noGrp="1"/>
          </p:cNvSpPr>
          <p:nvPr>
            <p:ph type="sldNum" idx="21"/>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8F3A-D942-483B-88CC-EF71012CADA6}"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4" descr="Celestia-R1---OverlayContentSD.png"/>
          <p:cNvPicPr/>
          <p:nvPr/>
        </p:nvPicPr>
        <p:blipFill>
          <a:blip r:embed="rId3"/>
          <a:stretch/>
        </p:blipFill>
        <p:spPr>
          <a:xfrm>
            <a:off x="14400" y="0"/>
            <a:ext cx="9118440" cy="6858000"/>
          </a:xfrm>
          <a:prstGeom prst="rect">
            <a:avLst/>
          </a:prstGeom>
          <a:ln w="0">
            <a:noFill/>
          </a:ln>
        </p:spPr>
      </p:pic>
      <p:sp>
        <p:nvSpPr>
          <p:cNvPr id="2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9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96" name="PlaceHolder 3"/>
          <p:cNvSpPr>
            <a:spLocks noGrp="1"/>
          </p:cNvSpPr>
          <p:nvPr>
            <p:ph type="dt" idx="22"/>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type="ftr" idx="23"/>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98" name="PlaceHolder 5"/>
          <p:cNvSpPr>
            <a:spLocks noGrp="1"/>
          </p:cNvSpPr>
          <p:nvPr>
            <p:ph type="sldNum" idx="24"/>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E2B6-78AE-4655-A64F-86BE976CA63B}"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5" name="Picture 11" descr="Celestia-R1---OverlayContentSD.png"/>
          <p:cNvPicPr/>
          <p:nvPr/>
        </p:nvPicPr>
        <p:blipFill>
          <a:blip r:embed="rId3"/>
          <a:stretch/>
        </p:blipFill>
        <p:spPr>
          <a:xfrm>
            <a:off x="14400" y="0"/>
            <a:ext cx="9118440" cy="6858000"/>
          </a:xfrm>
          <a:prstGeom prst="rect">
            <a:avLst/>
          </a:prstGeom>
          <a:ln w="0">
            <a:noFill/>
          </a:ln>
        </p:spPr>
      </p:pic>
      <p:sp>
        <p:nvSpPr>
          <p:cNvPr id="3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33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338" name="PlaceHolder 3"/>
          <p:cNvSpPr>
            <a:spLocks noGrp="1"/>
          </p:cNvSpPr>
          <p:nvPr>
            <p:ph type="dt" idx="25"/>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type="ftr" idx="26"/>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340" name="PlaceHolder 5"/>
          <p:cNvSpPr>
            <a:spLocks noGrp="1"/>
          </p:cNvSpPr>
          <p:nvPr>
            <p:ph type="sldNum" idx="27"/>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3F8E-71E3-4637-BEB4-CDA9D3E72741}"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6" name="Rectangle 3" descr=""/>
          <p:cNvPicPr/>
          <p:nvPr/>
        </p:nvPicPr>
        <p:blipFill>
          <a:blip r:embed="rId1"/>
          <a:stretch/>
        </p:blipFill>
        <p:spPr>
          <a:xfrm>
            <a:off x="1268280" y="1255680"/>
            <a:ext cx="8356680" cy="38466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7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7" name=""/>
          <p:cNvGraphicFramePr/>
          <p:nvPr/>
        </p:nvGraphicFramePr>
        <p:xfrm>
          <a:off x="77760" y="1557360"/>
          <a:ext cx="8928000" cy="3924360"/>
        </p:xfrm>
        <a:graphic>
          <a:graphicData uri="http://schemas.openxmlformats.org/drawingml/2006/table">
            <a:tbl>
              <a:tblPr/>
              <a:tblGrid>
                <a:gridCol w="7559640"/>
                <a:gridCol w="268200"/>
                <a:gridCol w="1100160"/>
              </a:tblGrid>
              <a:tr h="73188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Предложения по поправкам</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100" spc="-1" strike="noStrike">
                          <a:solidFill>
                            <a:srgbClr val="000000"/>
                          </a:solidFill>
                          <a:latin typeface="Calibri"/>
                        </a:rPr>
                        <a:t>Сумма изменений</a:t>
                      </a:r>
                      <a:endParaRPr b="0" lang="en-US" sz="11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01400">
                <a:tc gridSpan="3">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Calibri"/>
                        </a:rPr>
                        <a:t> </a:t>
                      </a:r>
                      <a:r>
                        <a:rPr b="1" lang="ru-RU" sz="1500" spc="-1" strike="noStrike">
                          <a:solidFill>
                            <a:srgbClr val="ffffff"/>
                          </a:solidFill>
                          <a:latin typeface="Calibri"/>
                        </a:rPr>
                        <a:t>ДОХОДНАЯ ЧАСТЬ БЮДЖЕТА</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812e91"/>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03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СУММА ДОХОДОВ ДО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Arial"/>
                        </a:rPr>
                        <a:t>727 320</a:t>
                      </a:r>
                      <a:endParaRPr b="0" lang="en-US" sz="16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908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Предлагаем увеличить доходную часть бюджета в части безвозмездных поступлений из бюджета УР (дотации, субвенции, субсидии, иные МБТ) на сумму  увеличения  объема межбюджетных трансфертов, прогнозируемых к поступлению в бюджет района в 2019 году из бюджета УР в соответствии с нормативно-правовыми документами Удмуртской Республики о предоставлении указанных средств, (за период с 1 января по 1 апреля 2019 года)</a:t>
                      </a:r>
                      <a:endParaRPr b="0" lang="en-US" sz="14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111 698,2</a:t>
                      </a:r>
                      <a:endParaRPr b="0" lang="en-US" sz="14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91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Сумма поправок</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 111 698,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56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СУММА ДОХОДОВ ПОСЛЕ ВНЕСЕНИЯ ПОПРАВОК</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839 018,2</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768" name="Прямоугольник 4"/>
          <p:cNvGrpSpPr/>
          <p:nvPr/>
        </p:nvGrpSpPr>
        <p:grpSpPr>
          <a:xfrm>
            <a:off x="7723080" y="963720"/>
            <a:ext cx="1219320" cy="322200"/>
            <a:chOff x="7723080" y="963720"/>
            <a:chExt cx="1219320" cy="322200"/>
          </a:xfrm>
        </p:grpSpPr>
        <p:pic>
          <p:nvPicPr>
            <p:cNvPr id="769" name="Прямоугольник 4" descr=""/>
            <p:cNvPicPr/>
            <p:nvPr/>
          </p:nvPicPr>
          <p:blipFill>
            <a:blip r:embed="rId1"/>
            <a:stretch/>
          </p:blipFill>
          <p:spPr>
            <a:xfrm>
              <a:off x="7723080" y="963720"/>
              <a:ext cx="1219320" cy="322200"/>
            </a:xfrm>
            <a:prstGeom prst="rect">
              <a:avLst/>
            </a:prstGeom>
            <a:ln w="0">
              <a:noFill/>
            </a:ln>
          </p:spPr>
        </p:pic>
        <p:sp>
          <p:nvSpPr>
            <p:cNvPr id="770" name=""/>
            <p:cNvSpPr/>
            <p:nvPr/>
          </p:nvSpPr>
          <p:spPr>
            <a:xfrm>
              <a:off x="7740720" y="976320"/>
              <a:ext cx="118908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Тыс.рублей</a:t>
              </a:r>
              <a:endParaRPr b="0" lang="en-US" sz="1500" spc="-1" strike="noStrike">
                <a:solidFill>
                  <a:srgbClr val="ffffff"/>
                </a:solidFill>
                <a:latin typeface="Arial"/>
              </a:endParaRPr>
            </a:p>
          </p:txBody>
        </p:sp>
      </p:grpSp>
      <p:sp>
        <p:nvSpPr>
          <p:cNvPr id="771" name="Rectangle 2"/>
          <p:cNvSpPr/>
          <p:nvPr/>
        </p:nvSpPr>
        <p:spPr>
          <a:xfrm>
            <a:off x="507960" y="189000"/>
            <a:ext cx="8067600" cy="8157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900" spc="-1" strike="noStrike">
                <a:solidFill>
                  <a:srgbClr val="ffffff"/>
                </a:solidFill>
                <a:latin typeface="Calibri Light"/>
              </a:rPr>
              <a:t>Предложения по поправкам к бюджету 2019 года</a:t>
            </a:r>
            <a:endParaRPr b="0" lang="en-US" sz="2900" spc="-1" strike="noStrike">
              <a:solidFill>
                <a:srgbClr val="ffffff"/>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2" name=""/>
          <p:cNvGraphicFramePr/>
          <p:nvPr/>
        </p:nvGraphicFramePr>
        <p:xfrm>
          <a:off x="22320" y="0"/>
          <a:ext cx="9144000" cy="6754680"/>
        </p:xfrm>
        <a:graphic>
          <a:graphicData uri="http://schemas.openxmlformats.org/drawingml/2006/table">
            <a:tbl>
              <a:tblPr/>
              <a:tblGrid>
                <a:gridCol w="7862760"/>
                <a:gridCol w="1281240"/>
              </a:tblGrid>
              <a:tr h="38628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Calibri"/>
                        </a:rPr>
                        <a:t>РАСХОДНАЯ ЧАСТЬ БЮДЖЕТА</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812e91"/>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1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СУММА РАСХОДОВ ДО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737 320</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62784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муниципального Дорожного фонда  в 2019 году на  положительную разницу  между фактически поступившим и прогнозировавшимся объемом доходов  от уплаты акциз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232</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881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ассигнования Дорожного фонда на сумму  неиспользованного остатка ассигнований дорожного фонда по состоянию  на 01.01.2019 года</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 075,3</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515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ассигнования дорожного фонда на сумму  возврата в бюджет района в 2019 году неиспользованных  на 01.01.2018 года остатков  межбюджетных трансфертов, предоставленных поселениям на дорожную деятельность</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83,1</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976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Управлению культуры, спорта и молодежи на сумму неиспользованного остатка на 01.01.2019 от безвозмездных поступлений от юридических лиц на проведение мероприятий среди молодежи и подростк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3</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95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Управлению образования на сумму подтвержденного Министерством образования УР неиспользованного остатка на 01.01.2019 от целевых  поступлений из бюджета УР  на проведение мероприятий по повышению квалификации педагогических работник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7</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83448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тся учесть в  объеме бюджетных ассигнований, расходы бюджета, осуществляемые за счет  безвозмездных поступлений из бюджета УР, имеющих целевое назначение, полученных сверх объемов, утвержденных решением о бюджете и направленных на расходы в ходе исполнения бюджета без внесения изменений в решение о бюджете в соответствии с п.3 статьи 217 БК РФ  (субвенции, субсидии, иные)</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11 698,2</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9165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расходы бюджета 2019 года за счет уменьшения остатков (собственные) на счете бюджета по состоянию на 1 января 2019 года и направить их на  расходы по приобретению жилья по решению суда, приобретению спортивной формы, подготовку объектов коммунальной инфраструктуры к зимнему периоду, вывоз мусора, поддержку инициативного бюджетирования, поощрение муниципальных образований по итогам годового мониторинга за 2018 год</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 000</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867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расходы бюджета 2019 года за счет привлечения кредита от кредитной организации на проведение капитального ремонта (окна, крыши) учреждений образования и культуры</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0 500,6</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36360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Сумма поправок</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 128 600,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3427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СУММА РАСХОДОВ ПОСЛЕ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865 920,2</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bl>
          </a:graphicData>
        </a:graphic>
      </p:graphicFrame>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3" name=""/>
          <p:cNvGraphicFramePr/>
          <p:nvPr/>
        </p:nvGraphicFramePr>
        <p:xfrm>
          <a:off x="324000" y="907920"/>
          <a:ext cx="8569080" cy="5143680"/>
        </p:xfrm>
        <a:graphic>
          <a:graphicData uri="http://schemas.openxmlformats.org/drawingml/2006/table">
            <a:tbl>
              <a:tblPr/>
              <a:tblGrid>
                <a:gridCol w="7511760"/>
                <a:gridCol w="1057320"/>
              </a:tblGrid>
              <a:tr h="89064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Calibri"/>
                        </a:rPr>
                        <a:t>ИСТОЧНИКИ ФИНАНСИРОВАНИЯ ДЕФИЦИТА БЮДЖЕТА</a:t>
                      </a:r>
                      <a:endParaRPr b="0" lang="en-US" sz="2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cd8bd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316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ff0000"/>
                          </a:solidFill>
                          <a:latin typeface="Times New Roman"/>
                          <a:ea typeface="Times New Roman"/>
                        </a:rPr>
                        <a:t>БАЛАНС ("-" ДЕФИЦИТ; "+" ПРОФИЦИТ)</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26 90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442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гашение дефицита бюджета </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10 000</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8157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Уменьшение остатков на счете бюджета (собственные остатки на счете бюджета по состоянию на 01.01.2019)</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6 390,4</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901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Уменьшение остатков на счете бюджета (целевые остатки на счете бюджета по состоянию на 01.01.2019)</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11</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7477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лучение кредитов от кредитных организаций</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36 300</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901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гашение кредитов от других бюджетов бюджетной системы</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 25 799,4</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bl>
          </a:graphicData>
        </a:graphic>
      </p:graphicFrame>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179280" y="1413000"/>
          <a:ext cx="8785440" cy="4706640"/>
        </p:xfrm>
        <a:graphic>
          <a:graphicData uri="http://schemas.openxmlformats.org/drawingml/2006/table">
            <a:tbl>
              <a:tblPr/>
              <a:tblGrid>
                <a:gridCol w="5091120"/>
                <a:gridCol w="3694320"/>
              </a:tblGrid>
              <a:tr h="15793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 </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 </a:t>
                      </a:r>
                      <a:endParaRPr b="0"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c3ec1"/>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БЮДЖЕТ МУНИЦИПАЛЬНОГО ОБРАЗОВАНИЯ «МОЖГИНСКИЙ РАЙОН»</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2019 год</a:t>
                      </a:r>
                      <a:endParaRPr b="0"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c3ec1"/>
                    </a:solidFill>
                  </a:tcPr>
                </a:tc>
              </a:tr>
              <a:tr h="65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ДОХОДЫ</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839 018,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ee9"/>
                    </a:solidFill>
                  </a:tcPr>
                </a:tc>
              </a:tr>
              <a:tr h="6508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Times New Roman"/>
                          <a:ea typeface="Times New Roman"/>
                        </a:rPr>
                        <a:t>в том числе за счет за счет поступления безвозмездных поступлений</a:t>
                      </a:r>
                      <a:endParaRPr b="0" lang="en-US" sz="1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ea typeface="Arial"/>
                        </a:rPr>
                        <a:t>633 248,2</a:t>
                      </a:r>
                      <a:endParaRPr b="0"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1e8f4"/>
                    </a:solidFill>
                  </a:tcPr>
                </a:tc>
              </a:tr>
              <a:tr h="10270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РАСХОДЫ</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865 920,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ee9"/>
                    </a:solidFill>
                  </a:tcPr>
                </a:tc>
              </a:tr>
              <a:tr h="796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ДЕФИЦИТ(-)</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26 90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1e8f4"/>
                    </a:solidFill>
                  </a:tcPr>
                </a:tc>
              </a:tr>
            </a:tbl>
          </a:graphicData>
        </a:graphic>
      </p:graphicFrame>
      <p:sp>
        <p:nvSpPr>
          <p:cNvPr id="775" name="Rectangle 2"/>
          <p:cNvSpPr/>
          <p:nvPr/>
        </p:nvSpPr>
        <p:spPr>
          <a:xfrm>
            <a:off x="565200" y="144360"/>
            <a:ext cx="8066160" cy="81612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900" spc="-1" strike="noStrike">
                <a:solidFill>
                  <a:srgbClr val="ffffff"/>
                </a:solidFill>
                <a:latin typeface="Calibri Light"/>
              </a:rPr>
              <a:t>Уточненные параметры бюджета на 2019 год</a:t>
            </a:r>
            <a:endParaRPr b="0" lang="en-US" sz="2900" spc="-1" strike="noStrike">
              <a:solidFill>
                <a:srgbClr val="ffffff"/>
              </a:solidFill>
              <a:latin typeface="Arial"/>
            </a:endParaRPr>
          </a:p>
        </p:txBody>
      </p:sp>
      <p:grpSp>
        <p:nvGrpSpPr>
          <p:cNvPr id="776" name="Прямоугольник 7"/>
          <p:cNvGrpSpPr/>
          <p:nvPr/>
        </p:nvGrpSpPr>
        <p:grpSpPr>
          <a:xfrm>
            <a:off x="7759800" y="841320"/>
            <a:ext cx="1218960" cy="322200"/>
            <a:chOff x="7759800" y="841320"/>
            <a:chExt cx="1218960" cy="322200"/>
          </a:xfrm>
        </p:grpSpPr>
        <p:pic>
          <p:nvPicPr>
            <p:cNvPr id="777" name="Прямоугольник 7" descr=""/>
            <p:cNvPicPr/>
            <p:nvPr/>
          </p:nvPicPr>
          <p:blipFill>
            <a:blip r:embed="rId1"/>
            <a:stretch/>
          </p:blipFill>
          <p:spPr>
            <a:xfrm>
              <a:off x="7759800" y="841320"/>
              <a:ext cx="1218960" cy="322200"/>
            </a:xfrm>
            <a:prstGeom prst="rect">
              <a:avLst/>
            </a:prstGeom>
            <a:ln w="0">
              <a:noFill/>
            </a:ln>
          </p:spPr>
        </p:pic>
        <p:sp>
          <p:nvSpPr>
            <p:cNvPr id="778" name=""/>
            <p:cNvSpPr/>
            <p:nvPr/>
          </p:nvSpPr>
          <p:spPr>
            <a:xfrm>
              <a:off x="7775640" y="855720"/>
              <a:ext cx="118908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Тыс.рублей</a:t>
              </a:r>
              <a:endParaRPr b="0" lang="en-US" sz="1500" spc="-1" strike="noStrike">
                <a:solidFill>
                  <a:srgbClr val="ffffff"/>
                </a:solidFill>
                <a:latin typeface="Arial"/>
              </a:endParaRPr>
            </a:p>
          </p:txBody>
        </p:sp>
      </p:gr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6:47:21Z</dcterms:created>
  <dc:creator>User</dc:creator>
  <dc:description/>
  <dc:language>en-US</dc:language>
  <cp:lastModifiedBy>Жвакина</cp:lastModifiedBy>
  <cp:lastPrinted>2016-11-11T10:35:51Z</cp:lastPrinted>
  <dcterms:modified xsi:type="dcterms:W3CDTF">2019-04-02T08:02:27Z</dcterms:modified>
  <cp:revision>671</cp:revision>
  <dc:subject/>
  <dc:title>Слайд 1</dc:title>
</cp:coreProperties>
</file>