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5.jpeg" ContentType="image/jpeg"/>
  <Override PartName="/ppt/media/image106.png" ContentType="image/png"/>
  <Override PartName="/ppt/media/image123.wmf" ContentType="image/x-wmf"/>
  <Override PartName="/ppt/media/image56.png" ContentType="image/png"/>
  <Override PartName="/ppt/media/image10.png" ContentType="image/png"/>
  <Override PartName="/ppt/media/image107.png" ContentType="image/png"/>
  <Override PartName="/ppt/media/image4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2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14.wmf" ContentType="image/x-wmf"/>
  <Override PartName="/ppt/media/image53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43.png" ContentType="image/png"/>
  <Override PartName="/ppt/media/image25.png" ContentType="image/png"/>
  <Override PartName="/ppt/media/image93.png" ContentType="image/png"/>
  <Override PartName="/ppt/media/image37.png" ContentType="image/png"/>
  <Override PartName="/ppt/media/image131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38.png" ContentType="image/png"/>
  <Override PartName="/ppt/media/image8.wmf" ContentType="image/x-wmf"/>
  <Override PartName="/ppt/media/image114.png" ContentType="image/png"/>
  <Override PartName="/ppt/media/image40.png" ContentType="image/png"/>
  <Override PartName="/ppt/media/image30.png" ContentType="image/png"/>
  <Override PartName="/ppt/media/image127.png" ContentType="image/png"/>
  <Override PartName="/ppt/media/image7.wmf" ContentType="image/x-wmf"/>
  <Override PartName="/ppt/media/image113.png" ContentType="image/png"/>
  <Override PartName="/ppt/media/image39.png" ContentType="image/png"/>
  <Override PartName="/ppt/media/image21.png" ContentType="image/png"/>
  <Override PartName="/ppt/media/image118.png" ContentType="image/png"/>
  <Override PartName="/ppt/media/image20.png" ContentType="image/png"/>
  <Override PartName="/ppt/media/image117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57.png" ContentType="image/png"/>
  <Override PartName="/ppt/media/image124.wmf" ContentType="image/x-wmf"/>
  <Override PartName="/ppt/media/image71.png" ContentType="image/png"/>
  <Override PartName="/ppt/media/image72.png" ContentType="image/png"/>
  <Override PartName="/ppt/media/image59.png" ContentType="image/png"/>
  <Override PartName="/ppt/media/image126.wmf" ContentType="image/x-wmf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7.png" ContentType="image/png"/>
  <Override PartName="/ppt/media/image85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11.png" ContentType="image/png"/>
  <Override PartName="/ppt/media/image112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55.png" ContentType="image/png"/>
  <Override PartName="/ppt/media/image12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6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7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8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06B8-74B7-43E8-A929-8CFE1DF05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7B62-5845-44B2-8930-D8DB9A7A5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E372-C270-4381-BB19-F82DD0D0C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D84D-930D-4A1D-8597-759F13A61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CC3E-5D56-4A49-B393-6FEC76F62D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F75D-8786-4545-8325-F5F5C9D4E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2DCC-18DF-4AAC-A5C4-291EB8125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14D8-46A4-41A7-8D22-A51CCB40B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D7EF-8DCC-4802-92E6-C8A6EE89E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10BA-8A10-4D5D-BA3D-DC017D963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BFAD-422E-4106-B15B-08C39F44A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7B16-F1D0-4E3A-8F30-29898FF4C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F5B-A556-4D95-B14E-DEA030DD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23C-8036-436D-BACE-9FD17D93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418-5F83-42C3-8D5A-A88C6FD0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248-0D7F-46C2-A236-2C9BE830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D7A3-871A-4242-8378-F86C03E6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0BB2-BA49-4C2B-83EA-F67E969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3CF2-AF08-4501-9FD8-A0A0B8AE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6011-0554-4DC3-B378-3E38077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75B4-CD6B-418B-AE55-223F611B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8D27-0EB0-4624-AF5C-078FD7A9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5C76-EBDE-449F-8520-0D1C08AE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BEB-56DB-4067-98C6-B4874C44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081F-939C-4653-9799-751133A1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94DC-2DB3-420F-8ADB-6FB040C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72F0-A201-491C-AE4F-1044BE56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07C3-2119-457D-A2B9-3D6439EF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1942-8995-421C-803F-1D5ED50D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AA0A3-67AC-49EF-8E9E-5C3087DF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E5CA-2A8C-4ED7-BA86-1C5B8C0C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E1762-2CB4-4318-A056-C4545177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E6802-835C-4416-8465-8FEF78F0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1256-C8C6-423B-8FC2-C5AEDDEC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5CD-6DEA-4E18-A94A-E8A389A1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5A27-9791-4648-857A-A7A35ED3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F30C-45A2-4A1B-A880-A5562CD7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C6E9-1305-4125-8C4A-E68A5637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4AEA-D1B9-4897-82CF-177AC33A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755A-F032-482C-B152-8EEFFE78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A546-C551-4770-8664-7F57B964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687B1-4FD2-41FB-AB93-6C8E1087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13C8-8269-451A-86F3-4AE6BCD8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D927-F891-43C2-906B-93FA813B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D7D3-8602-4901-9A5A-80722C67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A75-2FFD-4715-AEBA-1F8754A6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A3C66-249F-4750-82CF-339CA59C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926FF-491C-447B-893A-468D9E05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79E5-3EE9-447F-91F5-C3398A89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0F248-DA56-4FE6-9102-7613FCAA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97F1D-4EE9-4C15-91A9-C052A9F1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7A6D2-2382-4E0D-96E5-41060646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FD58-3AB3-47EA-8848-628F900F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2B5D-7B64-486B-B8C8-699264ED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25295-1AFA-4E0C-8F97-C37D7F7F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D3C1D-F35A-48E6-89AC-65FEC4F1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509-34B9-425C-8382-24E520E7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03CC3-D918-4152-8EE7-21E29AF6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8BA62-A2A0-4FCE-B226-EDAFDAEC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16A64-F1F9-43EF-BB0E-2BF2B74F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DE05A-6294-4B2C-A5B2-E18618F2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C2659-9014-450D-9366-F6513D96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AE20-23C2-4D5E-8D33-02961E52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F262F-3F62-4521-BE17-DAAF1473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30648-DACF-4D55-8B96-9CABCC26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EE7B-E376-4AF9-A6C9-5E37C4A2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B19F4-D886-4E92-94BA-3FB48867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6BB-60A3-47B1-9377-6A274542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C913E-1A8F-4C10-B2C8-D7A678F3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818-9B97-4255-8AE6-A84E063E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C05-EA52-4721-AADD-9701722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9B1-27A9-4033-80F7-859271BB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72A6-B49C-44CA-9D9C-92431A523F8E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259B-7A29-4F95-90D1-9EF2E1FE9F02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5E0-F874-46A3-8196-999D3AACA3F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B1C2-5209-4441-8B55-DB803691B125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95B8-EE52-4B0A-BE34-D4107F771560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7.png"/><Relationship Id="rId3" Type="http://schemas.openxmlformats.org/officeDocument/2006/relationships/image" Target="../media/image127.png"/><Relationship Id="rId4" Type="http://schemas.openxmlformats.org/officeDocument/2006/relationships/image" Target="../media/image128.png"/><Relationship Id="rId5" Type="http://schemas.openxmlformats.org/officeDocument/2006/relationships/image" Target="../media/image129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26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29.png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5.png"/><Relationship Id="rId25" Type="http://schemas.openxmlformats.org/officeDocument/2006/relationships/image" Target="../media/image36.png"/><Relationship Id="rId26" Type="http://schemas.openxmlformats.org/officeDocument/2006/relationships/image" Target="../media/image35.png"/><Relationship Id="rId27" Type="http://schemas.openxmlformats.org/officeDocument/2006/relationships/image" Target="../media/image35.png"/><Relationship Id="rId28" Type="http://schemas.openxmlformats.org/officeDocument/2006/relationships/image" Target="../media/image27.png"/><Relationship Id="rId29" Type="http://schemas.openxmlformats.org/officeDocument/2006/relationships/image" Target="../media/image35.png"/><Relationship Id="rId30" Type="http://schemas.openxmlformats.org/officeDocument/2006/relationships/image" Target="../media/image37.png"/><Relationship Id="rId31" Type="http://schemas.openxmlformats.org/officeDocument/2006/relationships/image" Target="../media/image37.png"/><Relationship Id="rId32" Type="http://schemas.openxmlformats.org/officeDocument/2006/relationships/image" Target="../media/image28.png"/><Relationship Id="rId33" Type="http://schemas.openxmlformats.org/officeDocument/2006/relationships/image" Target="../media/image38.png"/><Relationship Id="rId34" Type="http://schemas.openxmlformats.org/officeDocument/2006/relationships/image" Target="../media/image28.png"/><Relationship Id="rId35" Type="http://schemas.openxmlformats.org/officeDocument/2006/relationships/image" Target="../media/image38.png"/><Relationship Id="rId36" Type="http://schemas.openxmlformats.org/officeDocument/2006/relationships/image" Target="../media/image38.png"/><Relationship Id="rId37" Type="http://schemas.openxmlformats.org/officeDocument/2006/relationships/image" Target="../media/image28.png"/><Relationship Id="rId38" Type="http://schemas.openxmlformats.org/officeDocument/2006/relationships/image" Target="../media/image38.png"/><Relationship Id="rId39" Type="http://schemas.openxmlformats.org/officeDocument/2006/relationships/image" Target="../media/image28.png"/><Relationship Id="rId40" Type="http://schemas.openxmlformats.org/officeDocument/2006/relationships/image" Target="../media/image28.png"/><Relationship Id="rId41" Type="http://schemas.openxmlformats.org/officeDocument/2006/relationships/image" Target="../media/image39.png"/><Relationship Id="rId42" Type="http://schemas.openxmlformats.org/officeDocument/2006/relationships/image" Target="../media/image40.png"/><Relationship Id="rId43" Type="http://schemas.openxmlformats.org/officeDocument/2006/relationships/image" Target="../media/image40.png"/><Relationship Id="rId44" Type="http://schemas.openxmlformats.org/officeDocument/2006/relationships/image" Target="../media/image39.png"/><Relationship Id="rId45" Type="http://schemas.openxmlformats.org/officeDocument/2006/relationships/image" Target="../media/image39.png"/><Relationship Id="rId46" Type="http://schemas.openxmlformats.org/officeDocument/2006/relationships/image" Target="../media/image39.png"/><Relationship Id="rId47" Type="http://schemas.openxmlformats.org/officeDocument/2006/relationships/image" Target="../media/image39.png"/><Relationship Id="rId48" Type="http://schemas.openxmlformats.org/officeDocument/2006/relationships/image" Target="../media/image40.png"/><Relationship Id="rId49" Type="http://schemas.openxmlformats.org/officeDocument/2006/relationships/image" Target="../media/image39.png"/><Relationship Id="rId50" Type="http://schemas.openxmlformats.org/officeDocument/2006/relationships/image" Target="../media/image39.png"/><Relationship Id="rId51" Type="http://schemas.openxmlformats.org/officeDocument/2006/relationships/image" Target="../media/image25.png"/><Relationship Id="rId52" Type="http://schemas.openxmlformats.org/officeDocument/2006/relationships/image" Target="../media/image34.png"/><Relationship Id="rId53" Type="http://schemas.openxmlformats.org/officeDocument/2006/relationships/image" Target="../media/image41.png"/><Relationship Id="rId54" Type="http://schemas.openxmlformats.org/officeDocument/2006/relationships/image" Target="../media/image38.png"/><Relationship Id="rId55" Type="http://schemas.openxmlformats.org/officeDocument/2006/relationships/image" Target="../media/image40.png"/><Relationship Id="rId56" Type="http://schemas.openxmlformats.org/officeDocument/2006/relationships/image" Target="../media/image42.png"/><Relationship Id="rId57" Type="http://schemas.openxmlformats.org/officeDocument/2006/relationships/image" Target="../media/image43.png"/><Relationship Id="rId58" Type="http://schemas.openxmlformats.org/officeDocument/2006/relationships/image" Target="../media/image44.png"/><Relationship Id="rId59" Type="http://schemas.openxmlformats.org/officeDocument/2006/relationships/image" Target="../media/image5.png"/><Relationship Id="rId6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65.png"/><Relationship Id="rId22" Type="http://schemas.openxmlformats.org/officeDocument/2006/relationships/image" Target="../media/image66.png"/><Relationship Id="rId23" Type="http://schemas.openxmlformats.org/officeDocument/2006/relationships/image" Target="../media/image67.png"/><Relationship Id="rId24" Type="http://schemas.openxmlformats.org/officeDocument/2006/relationships/image" Target="../media/image68.png"/><Relationship Id="rId25" Type="http://schemas.openxmlformats.org/officeDocument/2006/relationships/image" Target="../media/image69.png"/><Relationship Id="rId26" Type="http://schemas.openxmlformats.org/officeDocument/2006/relationships/image" Target="../media/image70.png"/><Relationship Id="rId27" Type="http://schemas.openxmlformats.org/officeDocument/2006/relationships/image" Target="../media/image71.png"/><Relationship Id="rId28" Type="http://schemas.openxmlformats.org/officeDocument/2006/relationships/image" Target="../media/image72.png"/><Relationship Id="rId29" Type="http://schemas.openxmlformats.org/officeDocument/2006/relationships/image" Target="../media/image73.png"/><Relationship Id="rId30" Type="http://schemas.openxmlformats.org/officeDocument/2006/relationships/image" Target="../media/image74.png"/><Relationship Id="rId31" Type="http://schemas.openxmlformats.org/officeDocument/2006/relationships/image" Target="../media/image75.png"/><Relationship Id="rId32" Type="http://schemas.openxmlformats.org/officeDocument/2006/relationships/image" Target="../media/image76.png"/><Relationship Id="rId33" Type="http://schemas.openxmlformats.org/officeDocument/2006/relationships/image" Target="../media/image77.png"/><Relationship Id="rId34" Type="http://schemas.openxmlformats.org/officeDocument/2006/relationships/image" Target="../media/image78.png"/><Relationship Id="rId35" Type="http://schemas.openxmlformats.org/officeDocument/2006/relationships/image" Target="../media/image79.png"/><Relationship Id="rId36" Type="http://schemas.openxmlformats.org/officeDocument/2006/relationships/image" Target="../media/image80.png"/><Relationship Id="rId37" Type="http://schemas.openxmlformats.org/officeDocument/2006/relationships/image" Target="../media/image81.png"/><Relationship Id="rId38" Type="http://schemas.openxmlformats.org/officeDocument/2006/relationships/image" Target="../media/image82.png"/><Relationship Id="rId39" Type="http://schemas.openxmlformats.org/officeDocument/2006/relationships/image" Target="../media/image83.png"/><Relationship Id="rId40" Type="http://schemas.openxmlformats.org/officeDocument/2006/relationships/image" Target="../media/image84.png"/><Relationship Id="rId41" Type="http://schemas.openxmlformats.org/officeDocument/2006/relationships/image" Target="../media/image85.png"/><Relationship Id="rId42" Type="http://schemas.openxmlformats.org/officeDocument/2006/relationships/image" Target="../media/image86.png"/><Relationship Id="rId43" Type="http://schemas.openxmlformats.org/officeDocument/2006/relationships/image" Target="../media/image87.png"/><Relationship Id="rId44" Type="http://schemas.openxmlformats.org/officeDocument/2006/relationships/image" Target="../media/image88.png"/><Relationship Id="rId45" Type="http://schemas.openxmlformats.org/officeDocument/2006/relationships/image" Target="../media/image89.png"/><Relationship Id="rId46" Type="http://schemas.openxmlformats.org/officeDocument/2006/relationships/image" Target="../media/image90.png"/><Relationship Id="rId47" Type="http://schemas.openxmlformats.org/officeDocument/2006/relationships/image" Target="../media/image91.png"/><Relationship Id="rId48" Type="http://schemas.openxmlformats.org/officeDocument/2006/relationships/image" Target="../media/image92.png"/><Relationship Id="rId49" Type="http://schemas.openxmlformats.org/officeDocument/2006/relationships/image" Target="../media/image93.png"/><Relationship Id="rId50" Type="http://schemas.openxmlformats.org/officeDocument/2006/relationships/image" Target="../media/image94.png"/><Relationship Id="rId51" Type="http://schemas.openxmlformats.org/officeDocument/2006/relationships/image" Target="../media/image95.png"/><Relationship Id="rId52" Type="http://schemas.openxmlformats.org/officeDocument/2006/relationships/image" Target="../media/image96.png"/><Relationship Id="rId53" Type="http://schemas.openxmlformats.org/officeDocument/2006/relationships/image" Target="../media/image97.png"/><Relationship Id="rId54" Type="http://schemas.openxmlformats.org/officeDocument/2006/relationships/image" Target="../media/image98.png"/><Relationship Id="rId55" Type="http://schemas.openxmlformats.org/officeDocument/2006/relationships/image" Target="../media/image99.png"/><Relationship Id="rId56" Type="http://schemas.openxmlformats.org/officeDocument/2006/relationships/image" Target="../media/image100.png"/><Relationship Id="rId57" Type="http://schemas.openxmlformats.org/officeDocument/2006/relationships/image" Target="../media/image101.png"/><Relationship Id="rId58" Type="http://schemas.openxmlformats.org/officeDocument/2006/relationships/image" Target="../media/image102.png"/><Relationship Id="rId59" Type="http://schemas.openxmlformats.org/officeDocument/2006/relationships/image" Target="../media/image103.png"/><Relationship Id="rId60" Type="http://schemas.openxmlformats.org/officeDocument/2006/relationships/image" Target="../media/image104.png"/><Relationship Id="rId61" Type="http://schemas.openxmlformats.org/officeDocument/2006/relationships/image" Target="../media/image105.png"/><Relationship Id="rId62" Type="http://schemas.openxmlformats.org/officeDocument/2006/relationships/image" Target="../media/image106.png"/><Relationship Id="rId63" Type="http://schemas.openxmlformats.org/officeDocument/2006/relationships/image" Target="../media/image107.png"/><Relationship Id="rId64" Type="http://schemas.openxmlformats.org/officeDocument/2006/relationships/image" Target="../media/image108.png"/><Relationship Id="rId65" Type="http://schemas.openxmlformats.org/officeDocument/2006/relationships/image" Target="../media/image109.png"/><Relationship Id="rId66" Type="http://schemas.openxmlformats.org/officeDocument/2006/relationships/image" Target="../media/image110.png"/><Relationship Id="rId67" Type="http://schemas.openxmlformats.org/officeDocument/2006/relationships/image" Target="../media/image111.png"/><Relationship Id="rId68" Type="http://schemas.openxmlformats.org/officeDocument/2006/relationships/image" Target="../media/image112.png"/><Relationship Id="rId69" Type="http://schemas.openxmlformats.org/officeDocument/2006/relationships/image" Target="../media/image113.png"/><Relationship Id="rId70" Type="http://schemas.openxmlformats.org/officeDocument/2006/relationships/image" Target="../media/image114.png"/><Relationship Id="rId71" Type="http://schemas.openxmlformats.org/officeDocument/2006/relationships/image" Target="../media/image115.png"/><Relationship Id="rId72" Type="http://schemas.openxmlformats.org/officeDocument/2006/relationships/image" Target="../media/image116.png"/><Relationship Id="rId73" Type="http://schemas.openxmlformats.org/officeDocument/2006/relationships/image" Target="../media/image117.png"/><Relationship Id="rId74" Type="http://schemas.openxmlformats.org/officeDocument/2006/relationships/image" Target="../media/image118.png"/><Relationship Id="rId75" Type="http://schemas.openxmlformats.org/officeDocument/2006/relationships/image" Target="../media/image119.png"/><Relationship Id="rId76" Type="http://schemas.openxmlformats.org/officeDocument/2006/relationships/image" Target="../media/image120.png"/><Relationship Id="rId77" Type="http://schemas.openxmlformats.org/officeDocument/2006/relationships/image" Target="../media/image121.png"/><Relationship Id="rId78" Type="http://schemas.openxmlformats.org/officeDocument/2006/relationships/image" Target="../media/image5.png"/><Relationship Id="rId79" Type="http://schemas.openxmlformats.org/officeDocument/2006/relationships/slideLayout" Target="../slideLayouts/slideLayout1.xml"/><Relationship Id="rId8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2.wmf"/><Relationship Id="rId2" Type="http://schemas.openxmlformats.org/officeDocument/2006/relationships/image" Target="../media/image123.wmf"/><Relationship Id="rId3" Type="http://schemas.openxmlformats.org/officeDocument/2006/relationships/image" Target="../media/image124.wmf"/><Relationship Id="rId4" Type="http://schemas.openxmlformats.org/officeDocument/2006/relationships/image" Target="../media/image125.jpeg"/><Relationship Id="rId5" Type="http://schemas.openxmlformats.org/officeDocument/2006/relationships/image" Target="../media/image126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0033cc"/>
                </a:solidFill>
                <a:latin typeface="Corbel"/>
              </a:rPr>
              <a:t>Информация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4160" y="2437920"/>
            <a:ext cx="8529480" cy="18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б исполнении бюджета муниципального образования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Можгинский район»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  201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год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08000" y="1197000"/>
          <a:ext cx="8785080" cy="5562720"/>
        </p:xfrm>
        <a:graphic>
          <a:graphicData uri="http://schemas.openxmlformats.org/drawingml/2006/table">
            <a:tbl>
              <a:tblPr/>
              <a:tblGrid>
                <a:gridCol w="4753080"/>
                <a:gridCol w="1223640"/>
                <a:gridCol w="1440000"/>
                <a:gridCol w="1368360"/>
              </a:tblGrid>
              <a:tr h="66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объекта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Удмуртской Республ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</a:tr>
              <a:tr h="4492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конструкция здания школьной мастерской под размещение детского сада в д.Н.Русский Сюга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222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конструкция крыши здания МБОУ «Русско-Сюгаильская СОШ» в д.Н.Русский Сюга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317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 скатной кровли Большеучинской СОШ,  с.Б.Уча ул.Садовая,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06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доснабжение ул.Малиновской в д.М.Сю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335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х.перевооружение  системы теплоснабжения объектов социальной сферы с переводом на газ в д.Б.Си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76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76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50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х.перевооружение котельной школы с переводом на газ в д.В.Юр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4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х.перевооружение  системы теплоснабжения ЦСДК в д.В.Ю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950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зопроводы распределительные д.Ме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80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05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работка ген.планов МО «Сюгаильское», «Черемушкинское», «Маловоложикьинско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4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вод нежилого помещения начальной школы в с.Пычас под жилое помещ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</a:tbl>
          </a:graphicData>
        </a:graphic>
      </p:graphicFrame>
      <p:pic>
        <p:nvPicPr>
          <p:cNvPr id="520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4"/>
          <p:cNvSpPr/>
          <p:nvPr/>
        </p:nvSpPr>
        <p:spPr>
          <a:xfrm>
            <a:off x="918360" y="281160"/>
            <a:ext cx="78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Финансирование расходов на строительство (реконструкц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капитальный ремонт, ремонт объектов муниципальн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бственности в 2015 год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Box 2"/>
          <p:cNvSpPr/>
          <p:nvPr/>
        </p:nvSpPr>
        <p:spPr>
          <a:xfrm>
            <a:off x="8224200" y="88596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Box 1"/>
          <p:cNvSpPr/>
          <p:nvPr/>
        </p:nvSpPr>
        <p:spPr>
          <a:xfrm>
            <a:off x="7812000" y="730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айд 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108000" y="1197000"/>
          <a:ext cx="8709120" cy="5549760"/>
        </p:xfrm>
        <a:graphic>
          <a:graphicData uri="http://schemas.openxmlformats.org/drawingml/2006/table">
            <a:tbl>
              <a:tblPr/>
              <a:tblGrid>
                <a:gridCol w="4680000"/>
                <a:gridCol w="1224000"/>
                <a:gridCol w="1584360"/>
                <a:gridCol w="1220760"/>
              </a:tblGrid>
              <a:tr h="66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объекта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Удмуртской Республ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</a:tr>
              <a:tr h="4492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 наружного газопровода высокого давления в с.Б.Киб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222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наружной водопроводной сети в д.Атабае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331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 наружной водопроводной сети с установкой водонапорной башни в с.Горня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05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 сети водоснабжения ст.Лю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34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 сетей водоснабжения по ул.Клубничная д.М.Коп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493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 сетей водоснабжения по ул.Мира с закольцовкой с ул.Школьной в с.Б.У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4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сетей водоснабжения по ул.Березовая, ул.Полевая в п.Зале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759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а входной группы оконных блоков в многоквартирном жилом доме по адресу с.Пычас ул.Советская, 10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05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а деревянных окон на пластиковые в МБДОУ «Б.Учинский детский сад №1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помещений в здании МКОУ «Большепудгинская ООШ» с размещением детского сада на одну группу в с.Б.Пуд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49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49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</a:tbl>
          </a:graphicData>
        </a:graphic>
      </p:graphicFrame>
      <p:pic>
        <p:nvPicPr>
          <p:cNvPr id="525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526" name="TextBox 4"/>
          <p:cNvSpPr/>
          <p:nvPr/>
        </p:nvSpPr>
        <p:spPr>
          <a:xfrm>
            <a:off x="918360" y="281160"/>
            <a:ext cx="78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Финансирование расходов на строительство (реконструкц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капитальный ремонт, ремонт объектов муниципальн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бственности в 2015 год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TextBox 2"/>
          <p:cNvSpPr/>
          <p:nvPr/>
        </p:nvSpPr>
        <p:spPr>
          <a:xfrm>
            <a:off x="8224200" y="88596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"/>
          <p:cNvGraphicFramePr/>
          <p:nvPr/>
        </p:nvGraphicFramePr>
        <p:xfrm>
          <a:off x="324000" y="1197000"/>
          <a:ext cx="8493120" cy="5256360"/>
        </p:xfrm>
        <a:graphic>
          <a:graphicData uri="http://schemas.openxmlformats.org/drawingml/2006/table">
            <a:tbl>
              <a:tblPr/>
              <a:tblGrid>
                <a:gridCol w="4464000"/>
                <a:gridCol w="1224000"/>
                <a:gridCol w="1584360"/>
                <a:gridCol w="1220760"/>
              </a:tblGrid>
              <a:tr h="706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 объекта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 Удмуртской Республ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ны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9769"/>
                        </a:gs>
                        <a:gs pos="100000">
                          <a:srgbClr val="ffffb7"/>
                        </a:gs>
                      </a:gsLst>
                      <a:lin ang="0"/>
                    </a:gradFill>
                  </a:tcPr>
                </a:tc>
              </a:tr>
              <a:tr h="471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кровли здания Б.Учинского ЦСД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44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а оконных блоков в здании Тракторского СДК, В.Юринского СД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601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ГРП на ст.Кер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27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работка проекта зоны санитарной охраны водозаборных скважин в с.Пы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61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наружной системы канализации в с.Пычас по ул.Аз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77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помещений многоквартирного дома ст.Керамик ул.Лесная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79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й ремонт помещений многоквартирного дома с.Черемушки ул.Макаренко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500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кущий ремонт объектов муниципальной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40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7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  <a:tr h="427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21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09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31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c"/>
                    </a:solidFill>
                  </a:tcPr>
                </a:tc>
              </a:tr>
            </a:tbl>
          </a:graphicData>
        </a:graphic>
      </p:graphicFrame>
      <p:pic>
        <p:nvPicPr>
          <p:cNvPr id="529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530" name="TextBox 4"/>
          <p:cNvSpPr/>
          <p:nvPr/>
        </p:nvSpPr>
        <p:spPr>
          <a:xfrm>
            <a:off x="918360" y="281160"/>
            <a:ext cx="78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Финансирование расходов на строительство (реконструкц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капитальный ремонт, ремонт объектов муниципальн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бственности в 2015 год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Box 2"/>
          <p:cNvSpPr/>
          <p:nvPr/>
        </p:nvSpPr>
        <p:spPr>
          <a:xfrm>
            <a:off x="8224200" y="88596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араметры исполнения бюджета муниципального образования «Можгинский район» за 2015 го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39680" y="1590840"/>
          <a:ext cx="8825040" cy="3281040"/>
        </p:xfrm>
        <a:graphic>
          <a:graphicData uri="http://schemas.openxmlformats.org/drawingml/2006/table">
            <a:tbl>
              <a:tblPr/>
              <a:tblGrid>
                <a:gridCol w="2198880"/>
                <a:gridCol w="1393560"/>
                <a:gridCol w="1563840"/>
                <a:gridCol w="1023840"/>
                <a:gridCol w="1325520"/>
                <a:gridCol w="1319400"/>
              </a:tblGrid>
              <a:tr h="633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ный ПЛ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и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 роста к 2014 году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7 08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9 13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3 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44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И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4 6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2 7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 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4 1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 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 5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4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/ ПРОФИЦИТ 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7 03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 97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 35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pic>
        <p:nvPicPr>
          <p:cNvPr id="534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8"/>
          <p:cNvSpPr/>
          <p:nvPr/>
        </p:nvSpPr>
        <p:spPr>
          <a:xfrm>
            <a:off x="7991640" y="10476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айд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55520" y="4888080"/>
          <a:ext cx="8825040" cy="576000"/>
        </p:xfrm>
        <a:graphic>
          <a:graphicData uri="http://schemas.openxmlformats.org/drawingml/2006/table">
            <a:tbl>
              <a:tblPr/>
              <a:tblGrid>
                <a:gridCol w="2200320"/>
                <a:gridCol w="1368360"/>
                <a:gridCol w="1584360"/>
                <a:gridCol w="1008000"/>
                <a:gridCol w="1368360"/>
                <a:gridCol w="1295640"/>
              </a:tblGrid>
              <a:tr h="576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 ДОЛ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94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155520" y="5464080"/>
          <a:ext cx="8837640" cy="731880"/>
        </p:xfrm>
        <a:graphic>
          <a:graphicData uri="http://schemas.openxmlformats.org/drawingml/2006/table">
            <a:tbl>
              <a:tblPr/>
              <a:tblGrid>
                <a:gridCol w="2185920"/>
                <a:gridCol w="1395360"/>
                <a:gridCol w="1584360"/>
                <a:gridCol w="1008360"/>
                <a:gridCol w="1368360"/>
                <a:gridCol w="1295280"/>
              </a:tblGrid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РСКАЯ ЗАДОЛЖЕННОСТЬ всего,    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32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6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141120" y="1006560"/>
          <a:ext cx="8823600" cy="576000"/>
        </p:xfrm>
        <a:graphic>
          <a:graphicData uri="http://schemas.openxmlformats.org/drawingml/2006/table">
            <a:tbl>
              <a:tblPr/>
              <a:tblGrid>
                <a:gridCol w="2198880"/>
                <a:gridCol w="3960720"/>
                <a:gridCol w="2664000"/>
              </a:tblGrid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бюджета за 201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роста к 2014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155520" y="6040440"/>
          <a:ext cx="8837640" cy="576360"/>
        </p:xfrm>
        <a:graphic>
          <a:graphicData uri="http://schemas.openxmlformats.org/drawingml/2006/table">
            <a:tbl>
              <a:tblPr/>
              <a:tblGrid>
                <a:gridCol w="2185920"/>
                <a:gridCol w="1395360"/>
                <a:gridCol w="1584360"/>
                <a:gridCol w="1008360"/>
                <a:gridCol w="1368360"/>
                <a:gridCol w="1295280"/>
              </a:tblGrid>
              <a:tr h="576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ые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49774"/>
                        </a:gs>
                        <a:gs pos="100000">
                          <a:srgbClr val="c8ffc8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7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98400" cy="9223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4"/>
          <p:cNvSpPr/>
          <p:nvPr/>
        </p:nvSpPr>
        <p:spPr>
          <a:xfrm>
            <a:off x="430200" y="-792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бъем муниципального долга бюджета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униципального образования «Можгинский район»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2" name="Рисунок 5" descr=""/>
          <p:cNvPicPr/>
          <p:nvPr/>
        </p:nvPicPr>
        <p:blipFill>
          <a:blip r:embed="rId2"/>
          <a:srcRect l="0" t="7361" r="53981" b="9736"/>
          <a:stretch/>
        </p:blipFill>
        <p:spPr>
          <a:xfrm>
            <a:off x="1300320" y="3313080"/>
            <a:ext cx="1643040" cy="1522440"/>
          </a:xfrm>
          <a:prstGeom prst="rect">
            <a:avLst/>
          </a:prstGeom>
          <a:ln w="0">
            <a:noFill/>
          </a:ln>
        </p:spPr>
      </p:pic>
      <p:sp>
        <p:nvSpPr>
          <p:cNvPr id="543" name="TextBox 7"/>
          <p:cNvSpPr/>
          <p:nvPr/>
        </p:nvSpPr>
        <p:spPr>
          <a:xfrm>
            <a:off x="1166400" y="4869000"/>
            <a:ext cx="19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25 943 тыс.ру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  <a:ea typeface="Arial"/>
              </a:rPr>
              <a:t>на 01.01.2015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" name="Рисунок 8" descr=""/>
          <p:cNvPicPr/>
          <p:nvPr/>
        </p:nvPicPr>
        <p:blipFill>
          <a:blip r:embed="rId3"/>
          <a:srcRect l="0" t="7361" r="53981" b="9736"/>
          <a:stretch/>
        </p:blipFill>
        <p:spPr>
          <a:xfrm>
            <a:off x="3995640" y="1328760"/>
            <a:ext cx="2076480" cy="2293920"/>
          </a:xfrm>
          <a:prstGeom prst="rect">
            <a:avLst/>
          </a:prstGeom>
          <a:ln w="0">
            <a:noFill/>
          </a:ln>
        </p:spPr>
      </p:pic>
      <p:sp>
        <p:nvSpPr>
          <p:cNvPr id="545" name="TextBox 9"/>
          <p:cNvSpPr/>
          <p:nvPr/>
        </p:nvSpPr>
        <p:spPr>
          <a:xfrm>
            <a:off x="4178520" y="3719520"/>
            <a:ext cx="19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51 483 тыс.ру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  <a:ea typeface="Arial"/>
              </a:rPr>
              <a:t>на 01.01.2016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6" name="Freeform 22"/>
          <p:cNvGrpSpPr/>
          <p:nvPr/>
        </p:nvGrpSpPr>
        <p:grpSpPr>
          <a:xfrm>
            <a:off x="1981080" y="1706400"/>
            <a:ext cx="1962360" cy="1670040"/>
            <a:chOff x="1981080" y="1706400"/>
            <a:chExt cx="1962360" cy="1670040"/>
          </a:xfrm>
        </p:grpSpPr>
        <p:pic>
          <p:nvPicPr>
            <p:cNvPr id="547" name="Freeform 22" descr=""/>
            <p:cNvPicPr/>
            <p:nvPr/>
          </p:nvPicPr>
          <p:blipFill>
            <a:blip r:embed="rId4"/>
            <a:stretch/>
          </p:blipFill>
          <p:spPr>
            <a:xfrm>
              <a:off x="1981080" y="1706400"/>
              <a:ext cx="19623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 rot="8680200">
              <a:off x="2011320" y="2205000"/>
              <a:ext cx="1898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9" name="Скругленная прямоугольная выноска 11" descr=""/>
          <p:cNvPicPr/>
          <p:nvPr/>
        </p:nvPicPr>
        <p:blipFill>
          <a:blip r:embed="rId5"/>
          <a:stretch/>
        </p:blipFill>
        <p:spPr>
          <a:xfrm>
            <a:off x="6504120" y="3481560"/>
            <a:ext cx="2371680" cy="1730160"/>
          </a:xfrm>
          <a:prstGeom prst="rect">
            <a:avLst/>
          </a:prstGeom>
          <a:ln w="0">
            <a:noFill/>
          </a:ln>
        </p:spPr>
      </p:pic>
      <p:sp>
        <p:nvSpPr>
          <p:cNvPr id="550" name="TextBox 15"/>
          <p:cNvSpPr/>
          <p:nvPr/>
        </p:nvSpPr>
        <p:spPr>
          <a:xfrm>
            <a:off x="2020680" y="1058760"/>
            <a:ext cx="62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рхний предел муниципального внутреннего дол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Box 16"/>
          <p:cNvSpPr/>
          <p:nvPr/>
        </p:nvSpPr>
        <p:spPr>
          <a:xfrm>
            <a:off x="1902240" y="5840280"/>
            <a:ext cx="66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ельный объем муниципального внутреннего дол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2015 год-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51 483 тыс.ру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Прямоугольник 8"/>
          <p:cNvSpPr/>
          <p:nvPr/>
        </p:nvSpPr>
        <p:spPr>
          <a:xfrm>
            <a:off x="7988400" y="730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айд 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20520" y="1268280"/>
          <a:ext cx="4480200" cy="4680000"/>
        </p:xfrm>
        <a:graphic>
          <a:graphicData uri="http://schemas.openxmlformats.org/drawingml/2006/table">
            <a:tbl>
              <a:tblPr/>
              <a:tblGrid>
                <a:gridCol w="1611360"/>
                <a:gridCol w="1003320"/>
                <a:gridCol w="1019160"/>
                <a:gridCol w="846360"/>
              </a:tblGrid>
              <a:tr h="77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29d3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29d3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29d3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о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29d3e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ов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5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кибь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7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пудг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6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1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сиб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8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3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уч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84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2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юр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5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4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як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6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тч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6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25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г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7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5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0e8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аложикь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6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6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4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5" name=""/>
          <p:cNvGraphicFramePr/>
          <p:nvPr/>
        </p:nvGraphicFramePr>
        <p:xfrm>
          <a:off x="4643280" y="1268280"/>
          <a:ext cx="4500720" cy="4686480"/>
        </p:xfrm>
        <a:graphic>
          <a:graphicData uri="http://schemas.openxmlformats.org/drawingml/2006/table">
            <a:tbl>
              <a:tblPr/>
              <a:tblGrid>
                <a:gridCol w="1841760"/>
                <a:gridCol w="885600"/>
                <a:gridCol w="887400"/>
                <a:gridCol w="885960"/>
              </a:tblGrid>
              <a:tr h="77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478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478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478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о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4787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ьников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9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г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9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0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</a:tr>
              <a:tr h="38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нек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6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96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ш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3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зяль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7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7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час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1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8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окакс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1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4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гаиль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2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3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мушк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0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0cfd9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48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2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e9ed"/>
                    </a:solidFill>
                  </a:tcPr>
                </a:tc>
              </a:tr>
            </a:tbl>
          </a:graphicData>
        </a:graphic>
      </p:graphicFrame>
      <p:sp>
        <p:nvSpPr>
          <p:cNvPr id="556" name="TextBox 6"/>
          <p:cNvSpPr/>
          <p:nvPr/>
        </p:nvSpPr>
        <p:spPr>
          <a:xfrm>
            <a:off x="679320" y="26820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сполнение бюджетов муниципальных образований сельских поселений за 2015 год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7996320" y="730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айд 1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95440" y="218880"/>
            <a:ext cx="81468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Задачи на 2016 год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9" name="Загнутый угол 3"/>
          <p:cNvGrpSpPr/>
          <p:nvPr/>
        </p:nvGrpSpPr>
        <p:grpSpPr>
          <a:xfrm>
            <a:off x="219240" y="1146240"/>
            <a:ext cx="4492440" cy="5022720"/>
            <a:chOff x="219240" y="1146240"/>
            <a:chExt cx="4492440" cy="5022720"/>
          </a:xfrm>
        </p:grpSpPr>
        <p:pic>
          <p:nvPicPr>
            <p:cNvPr id="560" name="Загнутый угол 3" descr=""/>
            <p:cNvPicPr/>
            <p:nvPr/>
          </p:nvPicPr>
          <p:blipFill>
            <a:blip r:embed="rId1"/>
            <a:stretch/>
          </p:blipFill>
          <p:spPr>
            <a:xfrm>
              <a:off x="219240" y="1146240"/>
              <a:ext cx="4492440" cy="50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349200" y="1184400"/>
              <a:ext cx="4289400" cy="41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SzPct val="153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SzPct val="153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нять все необходимые меры по наращиванию доходной базы бюджет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SzPct val="153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 исполнении бюджета 2016 года руководствоваться постановлением Администрации муниципального образования «Можгинский район» от 18.01.2016г. № 44 «О мерах по реализации решения  Совета депутатов  муниципального образования «Можгинский район» «О бюджете муниципального образования «Можгинский район» на 2016 год»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2" name="Загнутый угол 4"/>
          <p:cNvGrpSpPr/>
          <p:nvPr/>
        </p:nvGrpSpPr>
        <p:grpSpPr>
          <a:xfrm>
            <a:off x="4803840" y="2023920"/>
            <a:ext cx="4127400" cy="4803840"/>
            <a:chOff x="4803840" y="2023920"/>
            <a:chExt cx="4127400" cy="4803840"/>
          </a:xfrm>
        </p:grpSpPr>
        <p:pic>
          <p:nvPicPr>
            <p:cNvPr id="563" name="Загнутый угол 4" descr=""/>
            <p:cNvPicPr/>
            <p:nvPr/>
          </p:nvPicPr>
          <p:blipFill>
            <a:blip r:embed="rId2"/>
            <a:stretch/>
          </p:blipFill>
          <p:spPr>
            <a:xfrm>
              <a:off x="4803840" y="2023920"/>
              <a:ext cx="4127400" cy="48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4935600" y="2060640"/>
              <a:ext cx="387828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just">
                <a:lnSpc>
                  <a:spcPct val="100000"/>
                </a:lnSpc>
                <a:buClr>
                  <a:srgbClr val="ffffff"/>
                </a:buClr>
                <a:buSzPct val="153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ffffff"/>
                </a:buClr>
                <a:buSzPct val="153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ffffff"/>
                </a:buClr>
                <a:buSzPct val="153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SzPct val="153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вести инвентаризацию расходных обязательств на предмет отказа от не первоочередных расходов в пользу приоритетных направлений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SzPct val="153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должить реализацию Планов по оздоровлению муниципальных финансов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SzPct val="153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должить разработку и реализацию ведомственных планов повышения эффективности бюджетных расходов в 2016 году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65" name="Рисунок 1" descr=""/>
          <p:cNvPicPr/>
          <p:nvPr/>
        </p:nvPicPr>
        <p:blipFill>
          <a:blip r:embed="rId3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6"/>
          <p:cNvSpPr/>
          <p:nvPr/>
        </p:nvSpPr>
        <p:spPr>
          <a:xfrm>
            <a:off x="8039160" y="10476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айд 1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75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875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7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875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24" descr=""/>
          <p:cNvPicPr/>
          <p:nvPr/>
        </p:nvPicPr>
        <p:blipFill>
          <a:blip r:embed="rId1"/>
          <a:stretch/>
        </p:blipFill>
        <p:spPr>
          <a:xfrm>
            <a:off x="4846680" y="947880"/>
            <a:ext cx="4527360" cy="44942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7"/>
          <p:cNvSpPr/>
          <p:nvPr/>
        </p:nvSpPr>
        <p:spPr>
          <a:xfrm>
            <a:off x="8032320" y="-3240"/>
            <a:ext cx="95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Picture 499" descr=""/>
          <p:cNvPicPr/>
          <p:nvPr/>
        </p:nvPicPr>
        <p:blipFill>
          <a:blip r:embed="rId2"/>
          <a:stretch/>
        </p:blipFill>
        <p:spPr>
          <a:xfrm>
            <a:off x="469800" y="981000"/>
            <a:ext cx="3260880" cy="36766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96"/>
          <p:cNvSpPr/>
          <p:nvPr/>
        </p:nvSpPr>
        <p:spPr>
          <a:xfrm>
            <a:off x="1285920" y="2872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Поступление налоговых платежей Можгинского района 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за  2015 год по уровням бюджетов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525" descr=""/>
          <p:cNvPicPr/>
          <p:nvPr/>
        </p:nvPicPr>
        <p:blipFill>
          <a:blip r:embed="rId3"/>
          <a:srcRect l="0" t="29300" r="15545" b="7341"/>
          <a:stretch/>
        </p:blipFill>
        <p:spPr>
          <a:xfrm>
            <a:off x="339840" y="4406760"/>
            <a:ext cx="5364000" cy="231804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526"/>
          <p:cNvSpPr/>
          <p:nvPr/>
        </p:nvSpPr>
        <p:spPr>
          <a:xfrm>
            <a:off x="4846680" y="4492800"/>
            <a:ext cx="431640" cy="1079280"/>
          </a:xfrm>
          <a:custGeom>
            <a:avLst/>
            <a:gdLst>
              <a:gd name="textAreaLeft" fmla="*/ 57600 w 431640"/>
              <a:gd name="textAreaRight" fmla="*/ 374040 w 43164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AutoShape 527"/>
          <p:cNvSpPr/>
          <p:nvPr/>
        </p:nvSpPr>
        <p:spPr>
          <a:xfrm rot="8829000">
            <a:off x="2015640" y="2468160"/>
            <a:ext cx="432000" cy="1079640"/>
          </a:xfrm>
          <a:custGeom>
            <a:avLst/>
            <a:gdLst>
              <a:gd name="textAreaLeft" fmla="*/ 57600 w 432000"/>
              <a:gd name="textAreaRight" fmla="*/ 374400 w 43200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529"/>
          <p:cNvSpPr/>
          <p:nvPr/>
        </p:nvSpPr>
        <p:spPr>
          <a:xfrm>
            <a:off x="3468600" y="5489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,7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лн. руб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530"/>
          <p:cNvSpPr/>
          <p:nvPr/>
        </p:nvSpPr>
        <p:spPr>
          <a:xfrm>
            <a:off x="6680160" y="2916360"/>
            <a:ext cx="22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ebebeb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24,8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лн. руб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31"/>
          <p:cNvSpPr/>
          <p:nvPr/>
        </p:nvSpPr>
        <p:spPr>
          <a:xfrm>
            <a:off x="1014480" y="2103480"/>
            <a:ext cx="21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64,3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лн. руб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AutoShape 532"/>
          <p:cNvSpPr/>
          <p:nvPr/>
        </p:nvSpPr>
        <p:spPr>
          <a:xfrm>
            <a:off x="5678640" y="2724120"/>
            <a:ext cx="1222200" cy="385920"/>
          </a:xfrm>
          <a:custGeom>
            <a:avLst/>
            <a:gdLst>
              <a:gd name="textAreaLeft" fmla="*/ 232920 w 1222200"/>
              <a:gd name="textAreaRight" fmla="*/ 892440 w 1222200"/>
              <a:gd name="textAreaTop" fmla="*/ 51480 h 385920"/>
              <a:gd name="textAreaBottom" fmla="*/ 334440 h 385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39" hR="21600" stAng="10800000" swAng="5400000"/>
                <a:lnTo>
                  <a:pt x="11654" y="0"/>
                </a:lnTo>
                <a:arcTo wR="8239" hR="21600" stAng="-5400000" swAng="1999579"/>
                <a:lnTo>
                  <a:pt x="20488" y="10762"/>
                </a:lnTo>
                <a:lnTo>
                  <a:pt x="18185" y="21600"/>
                </a:lnTo>
                <a:lnTo>
                  <a:pt x="13657" y="10762"/>
                </a:lnTo>
                <a:lnTo>
                  <a:pt x="15365" y="10762"/>
                </a:lnTo>
                <a:arcTo wR="8239" hR="21600" stAng="-3400421" swAng="-1722392"/>
                <a:lnTo>
                  <a:pt x="9946" y="469"/>
                </a:lnTo>
                <a:arcTo wR="8239" hR="21600" stAng="-5677187" swAng="-5122813"/>
                <a:close/>
              </a:path>
              <a:path fill="darkenLess" w="21600" h="21600">
                <a:moveTo>
                  <a:pt x="0" y="21600"/>
                </a:moveTo>
                <a:arcTo wR="8239" hR="21600" stAng="10800000" swAng="5400000"/>
                <a:lnTo>
                  <a:pt x="8239" y="0"/>
                </a:lnTo>
                <a:arcTo wR="8239" hR="21600" stAng="-5400000" swAng="277187"/>
                <a:lnTo>
                  <a:pt x="9946" y="469"/>
                </a:lnTo>
                <a:arcTo wR="8239" hR="21600" stAng="-5677187" swAng="-5122813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533"/>
          <p:cNvSpPr/>
          <p:nvPr/>
        </p:nvSpPr>
        <p:spPr>
          <a:xfrm rot="18573000">
            <a:off x="708840" y="1375560"/>
            <a:ext cx="91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Бюджет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34"/>
          <p:cNvSpPr/>
          <p:nvPr/>
        </p:nvSpPr>
        <p:spPr>
          <a:xfrm rot="18573000">
            <a:off x="2050200" y="1395360"/>
            <a:ext cx="112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Бюджеты поселе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535"/>
          <p:cNvSpPr/>
          <p:nvPr/>
        </p:nvSpPr>
        <p:spPr>
          <a:xfrm>
            <a:off x="7275600" y="1203480"/>
            <a:ext cx="136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УР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536"/>
          <p:cNvSpPr/>
          <p:nvPr/>
        </p:nvSpPr>
        <p:spPr>
          <a:xfrm>
            <a:off x="2379600" y="5473800"/>
            <a:ext cx="1152720" cy="4748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РФ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537"/>
          <p:cNvSpPr/>
          <p:nvPr/>
        </p:nvSpPr>
        <p:spPr>
          <a:xfrm>
            <a:off x="885960" y="3110040"/>
            <a:ext cx="134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Местный бюджет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Рисунок 1" descr=""/>
          <p:cNvPicPr/>
          <p:nvPr/>
        </p:nvPicPr>
        <p:blipFill>
          <a:blip r:embed="rId4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34"/>
          <p:cNvSpPr/>
          <p:nvPr/>
        </p:nvSpPr>
        <p:spPr>
          <a:xfrm>
            <a:off x="1635120" y="148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Диаграмма 19" descr=""/>
          <p:cNvPicPr/>
          <p:nvPr/>
        </p:nvPicPr>
        <p:blipFill>
          <a:blip r:embed="rId5"/>
          <a:stretch/>
        </p:blipFill>
        <p:spPr>
          <a:xfrm>
            <a:off x="1889280" y="1536840"/>
            <a:ext cx="4402080" cy="33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5880" y="-321120"/>
            <a:ext cx="77043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нализ поступления налоговых и неналоговых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доходов в бюджет муниципального образования  «Можгинский район»  за  2014-  2015 год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949320" y="3195720"/>
          <a:ext cx="3738600" cy="238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3195720"/>
                    <a:ext cx="37386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20"/>
          <p:cNvGraphicFramePr/>
          <p:nvPr/>
        </p:nvGraphicFramePr>
        <p:xfrm>
          <a:off x="4456080" y="2481120"/>
          <a:ext cx="4038480" cy="292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2481120"/>
                    <a:ext cx="403848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Box 27"/>
          <p:cNvSpPr/>
          <p:nvPr/>
        </p:nvSpPr>
        <p:spPr>
          <a:xfrm>
            <a:off x="1824840" y="1084320"/>
            <a:ext cx="1504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4 г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Box 27"/>
          <p:cNvSpPr/>
          <p:nvPr/>
        </p:nvSpPr>
        <p:spPr>
          <a:xfrm>
            <a:off x="5869800" y="1081080"/>
            <a:ext cx="1504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5 г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8083080" y="-15840"/>
            <a:ext cx="9518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5845320" y="5986440"/>
            <a:ext cx="1942920" cy="576360"/>
          </a:xfrm>
          <a:prstGeom prst="roundRect">
            <a:avLst>
              <a:gd name="adj" fmla="val 16667"/>
            </a:avLst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Всего 182 713,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949320" y="5452920"/>
            <a:ext cx="33847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оговые доходы 127 294,8 тыс.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1828800" y="6008760"/>
            <a:ext cx="1943280" cy="576360"/>
          </a:xfrm>
          <a:prstGeom prst="roundRect">
            <a:avLst>
              <a:gd name="adj" fmla="val 16667"/>
            </a:avLst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Всего 139 051,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106200" y="1486080"/>
            <a:ext cx="1619280" cy="731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Неналоговые доходы                   11 756,6 тыс.руб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2895120" y="423540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ДФЛ 85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2418840" y="2948040"/>
            <a:ext cx="1073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ahoma"/>
              </a:rPr>
              <a:t>Акцизы 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005280" y="2106720"/>
            <a:ext cx="145080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ahoma"/>
              </a:rPr>
              <a:t>Налоги на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ahoma"/>
              </a:rPr>
              <a:t>совокупный доход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0000"/>
                </a:solidFill>
                <a:latin typeface="Tahoma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1320840" y="2278080"/>
            <a:ext cx="150048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Доходы 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использова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имущества 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565200" y="3219480"/>
            <a:ext cx="1204920" cy="45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c5a82"/>
                </a:solidFill>
                <a:latin typeface="Tahoma"/>
              </a:rPr>
              <a:t>Проч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c5a82"/>
                </a:solidFill>
                <a:latin typeface="Tahoma"/>
              </a:rPr>
              <a:t>доходы 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5122440" y="378936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ДФЛ 78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4660920" y="2128680"/>
            <a:ext cx="160812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ahoma"/>
              </a:rPr>
              <a:t>Налоги на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ahoma"/>
              </a:rPr>
              <a:t>совокупный доход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0000"/>
                </a:solidFill>
                <a:latin typeface="Tahoma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970520" y="5452920"/>
            <a:ext cx="338436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оговые доходы 166 488,6 тыс.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7493040" y="1349280"/>
            <a:ext cx="1650960" cy="731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Неналоговые доходы                    16 225,3 тыс.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6627600" y="2284560"/>
            <a:ext cx="150048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Доходы 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использова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имущества 4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7951680" y="3233880"/>
            <a:ext cx="1052280" cy="45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c5a82"/>
                </a:solidFill>
                <a:latin typeface="Tahoma"/>
              </a:rPr>
              <a:t>Проч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c5a82"/>
                </a:solidFill>
                <a:latin typeface="Tahoma"/>
              </a:rPr>
              <a:t>доходы 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5437440" y="2948040"/>
            <a:ext cx="1073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ahoma"/>
              </a:rPr>
              <a:t>Акцизы 9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7668720" y="4653000"/>
            <a:ext cx="1110240" cy="64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Доходы 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продажи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активов 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37600" y="4653000"/>
            <a:ext cx="1110240" cy="64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Доходы 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продажи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активов 3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Рисунок 1" descr=""/>
          <p:cNvPicPr/>
          <p:nvPr/>
        </p:nvPicPr>
        <p:blipFill>
          <a:blip r:embed="rId5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50840" y="33948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труктура доходов бюджета муниципального образования «Можгинский» район»  за 2014- 2015 год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02" name="Object 51"/>
          <p:cNvGraphicFramePr/>
          <p:nvPr/>
        </p:nvGraphicFramePr>
        <p:xfrm>
          <a:off x="455760" y="1565280"/>
          <a:ext cx="7629480" cy="41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565280"/>
                    <a:ext cx="762948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6"/>
          <p:cNvSpPr/>
          <p:nvPr/>
        </p:nvSpPr>
        <p:spPr>
          <a:xfrm>
            <a:off x="2209680" y="2143080"/>
            <a:ext cx="1467000" cy="45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733 2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557680" y="1378080"/>
            <a:ext cx="1411560" cy="45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59 136,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571760" y="5767560"/>
            <a:ext cx="2232000" cy="457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3085e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4 г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5113440" y="5823000"/>
            <a:ext cx="2232000" cy="457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3085e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13"/>
          <p:cNvSpPr/>
          <p:nvPr/>
        </p:nvSpPr>
        <p:spPr>
          <a:xfrm>
            <a:off x="404640" y="5021280"/>
            <a:ext cx="1616400" cy="503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оговые 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15"/>
          <p:cNvSpPr/>
          <p:nvPr/>
        </p:nvSpPr>
        <p:spPr>
          <a:xfrm>
            <a:off x="500040" y="3602160"/>
            <a:ext cx="1479600" cy="503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звозмездные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туп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8032320" y="0"/>
            <a:ext cx="95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18"/>
          <p:cNvSpPr/>
          <p:nvPr/>
        </p:nvSpPr>
        <p:spPr>
          <a:xfrm>
            <a:off x="2620800" y="3284640"/>
            <a:ext cx="505080" cy="21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81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AutoShape 20"/>
          <p:cNvSpPr/>
          <p:nvPr/>
        </p:nvSpPr>
        <p:spPr>
          <a:xfrm>
            <a:off x="6037200" y="5021280"/>
            <a:ext cx="43200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1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21"/>
          <p:cNvSpPr/>
          <p:nvPr/>
        </p:nvSpPr>
        <p:spPr>
          <a:xfrm>
            <a:off x="6195960" y="2282760"/>
            <a:ext cx="50328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79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3995640" y="357336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49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50"/>
          <p:cNvSpPr/>
          <p:nvPr/>
        </p:nvSpPr>
        <p:spPr>
          <a:xfrm>
            <a:off x="1042920" y="213372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AutoShape 10" descr=""/>
          <p:cNvPicPr/>
          <p:nvPr/>
        </p:nvPicPr>
        <p:blipFill>
          <a:blip r:embed="rId3"/>
          <a:stretch/>
        </p:blipFill>
        <p:spPr>
          <a:xfrm>
            <a:off x="3749760" y="1274760"/>
            <a:ext cx="174312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67"/>
          <p:cNvSpPr/>
          <p:nvPr/>
        </p:nvSpPr>
        <p:spPr>
          <a:xfrm rot="20562600">
            <a:off x="3980520" y="1800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117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1"/>
          <p:cNvSpPr/>
          <p:nvPr/>
        </p:nvSpPr>
        <p:spPr>
          <a:xfrm>
            <a:off x="6959520" y="4975200"/>
            <a:ext cx="11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82 713,9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1"/>
          <p:cNvSpPr/>
          <p:nvPr/>
        </p:nvSpPr>
        <p:spPr>
          <a:xfrm>
            <a:off x="2411280" y="38527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71"/>
          <p:cNvSpPr/>
          <p:nvPr/>
        </p:nvSpPr>
        <p:spPr>
          <a:xfrm>
            <a:off x="3436920" y="5119560"/>
            <a:ext cx="117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39 051,4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71"/>
          <p:cNvSpPr/>
          <p:nvPr/>
        </p:nvSpPr>
        <p:spPr>
          <a:xfrm>
            <a:off x="2403360" y="3852720"/>
            <a:ext cx="14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594 190,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71"/>
          <p:cNvSpPr/>
          <p:nvPr/>
        </p:nvSpPr>
        <p:spPr>
          <a:xfrm>
            <a:off x="5711760" y="3076560"/>
            <a:ext cx="12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76 422,2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2616120" y="5146560"/>
            <a:ext cx="432000" cy="21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9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5" name="AutoShape 10" descr=""/>
          <p:cNvPicPr/>
          <p:nvPr/>
        </p:nvPicPr>
        <p:blipFill>
          <a:blip r:embed="rId4"/>
          <a:stretch/>
        </p:blipFill>
        <p:spPr>
          <a:xfrm>
            <a:off x="3956040" y="3078000"/>
            <a:ext cx="1590840" cy="1140120"/>
          </a:xfrm>
          <a:prstGeom prst="rect">
            <a:avLst/>
          </a:prstGeom>
          <a:ln w="0">
            <a:noFill/>
          </a:ln>
        </p:spPr>
      </p:pic>
      <p:pic>
        <p:nvPicPr>
          <p:cNvPr id="326" name="AutoShape 10" descr=""/>
          <p:cNvPicPr/>
          <p:nvPr/>
        </p:nvPicPr>
        <p:blipFill>
          <a:blip r:embed="rId5"/>
          <a:stretch/>
        </p:blipFill>
        <p:spPr>
          <a:xfrm>
            <a:off x="4151160" y="4834080"/>
            <a:ext cx="1420920" cy="106020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1" descr=""/>
          <p:cNvPicPr/>
          <p:nvPr/>
        </p:nvPicPr>
        <p:blipFill>
          <a:blip r:embed="rId6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19080" y="0"/>
          <a:ext cx="9144000" cy="681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 бюджет муниципального образования  «Можгинский район»  в 2015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 Box 7"/>
          <p:cNvSpPr/>
          <p:nvPr/>
        </p:nvSpPr>
        <p:spPr>
          <a:xfrm>
            <a:off x="7991640" y="0"/>
            <a:ext cx="1152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Таблица 1" descr=""/>
          <p:cNvPicPr/>
          <p:nvPr/>
        </p:nvPicPr>
        <p:blipFill>
          <a:blip r:embed="rId1"/>
          <a:stretch/>
        </p:blipFill>
        <p:spPr>
          <a:xfrm>
            <a:off x="195120" y="847800"/>
            <a:ext cx="8790120" cy="58341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2"/>
          <p:cNvSpPr/>
          <p:nvPr/>
        </p:nvSpPr>
        <p:spPr>
          <a:xfrm>
            <a:off x="8101080" y="542880"/>
            <a:ext cx="11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Рисунок 1" descr=""/>
          <p:cNvPicPr/>
          <p:nvPr/>
        </p:nvPicPr>
        <p:blipFill>
          <a:blip r:embed="rId2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Объект 3"/>
          <p:cNvGraphicFramePr/>
          <p:nvPr/>
        </p:nvGraphicFramePr>
        <p:xfrm>
          <a:off x="457200" y="744480"/>
          <a:ext cx="8597880" cy="579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44480"/>
                    <a:ext cx="859788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00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сполнение бюджета муниципального образования «Можгинский район» за 2015 год  по отрасля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3911760" y="3925800"/>
            <a:ext cx="165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всего 889 106,4 тыс.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7" descr="Борис Якеменко: вместо слов ndash; буквы"/>
          <p:cNvPicPr/>
          <p:nvPr/>
        </p:nvPicPr>
        <p:blipFill>
          <a:blip r:embed="rId3"/>
          <a:stretch/>
        </p:blipFill>
        <p:spPr>
          <a:xfrm>
            <a:off x="5016600" y="5541840"/>
            <a:ext cx="1768320" cy="1255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Саратовская молодежь отметит День России песнями и танцами - Газета &quot;Известия Саратов&quot;"/>
          <p:cNvPicPr/>
          <p:nvPr/>
        </p:nvPicPr>
        <p:blipFill>
          <a:blip r:embed="rId4"/>
          <a:stretch/>
        </p:blipFill>
        <p:spPr>
          <a:xfrm>
            <a:off x="1195560" y="5200560"/>
            <a:ext cx="1388880" cy="1047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Общество и Политика &quot; Страница 9 &quot; Town-Ya1.Ru - Только лучшее. Информационно-развлекательный портал Якутска"/>
          <p:cNvPicPr/>
          <p:nvPr/>
        </p:nvPicPr>
        <p:blipFill>
          <a:blip r:embed="rId5"/>
          <a:stretch/>
        </p:blipFill>
        <p:spPr>
          <a:xfrm>
            <a:off x="755640" y="3786120"/>
            <a:ext cx="1341360" cy="961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Объем инвестиций в сельское хозяйство Украины может превысить $40 миллиардов - Украина - Багнет"/>
          <p:cNvPicPr/>
          <p:nvPr/>
        </p:nvPicPr>
        <p:blipFill>
          <a:blip r:embed="rId6"/>
          <a:stretch/>
        </p:blipFill>
        <p:spPr>
          <a:xfrm>
            <a:off x="7589880" y="4334040"/>
            <a:ext cx="1359000" cy="907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" descr="IslamRF.ru: В Ставропольском крае утверждена программа по борьбе с терроризмом на 2012-2014 годы"/>
          <p:cNvPicPr/>
          <p:nvPr/>
        </p:nvPicPr>
        <p:blipFill>
          <a:blip r:embed="rId7"/>
          <a:stretch/>
        </p:blipFill>
        <p:spPr>
          <a:xfrm>
            <a:off x="7540560" y="3213000"/>
            <a:ext cx="1060560" cy="663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7" descr="Подготовка северян военно-учетным специальностям будет проходить по плану"/>
          <p:cNvPicPr/>
          <p:nvPr/>
        </p:nvPicPr>
        <p:blipFill>
          <a:blip r:embed="rId8"/>
          <a:stretch/>
        </p:blipFill>
        <p:spPr>
          <a:xfrm>
            <a:off x="7607160" y="554040"/>
            <a:ext cx="1444680" cy="884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9" descr="Послание Президента Федеральному собранию. - Opa tube - зажигательный видео портал"/>
          <p:cNvPicPr/>
          <p:nvPr/>
        </p:nvPicPr>
        <p:blipFill>
          <a:blip r:embed="rId9"/>
          <a:stretch/>
        </p:blipFill>
        <p:spPr>
          <a:xfrm>
            <a:off x="4932360" y="1109520"/>
            <a:ext cx="1523880" cy="968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1" descr="&quot;Морской&quot; детский оздоровительный лагерь (г. Анапа), летние каникулы, Всему учит море, отдых на море / Детский и молодежный отды"/>
          <p:cNvPicPr/>
          <p:nvPr/>
        </p:nvPicPr>
        <p:blipFill>
          <a:blip r:embed="rId10"/>
          <a:stretch/>
        </p:blipFill>
        <p:spPr>
          <a:xfrm>
            <a:off x="695160" y="2646360"/>
            <a:ext cx="1462320" cy="944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Как погасить кредит, отдать долги банку, вернуть займ - практические советы Инвестиции - это просто"/>
          <p:cNvPicPr/>
          <p:nvPr/>
        </p:nvPicPr>
        <p:blipFill>
          <a:blip r:embed="rId11"/>
          <a:stretch/>
        </p:blipFill>
        <p:spPr>
          <a:xfrm>
            <a:off x="1530360" y="1670040"/>
            <a:ext cx="719280" cy="506520"/>
          </a:xfrm>
          <a:prstGeom prst="rect">
            <a:avLst/>
          </a:prstGeom>
          <a:ln w="0">
            <a:noFill/>
          </a:ln>
        </p:spPr>
      </p:pic>
      <p:pic>
        <p:nvPicPr>
          <p:cNvPr id="346" name="chart" descr=""/>
          <p:cNvPicPr/>
          <p:nvPr/>
        </p:nvPicPr>
        <p:blipFill>
          <a:blip r:embed="rId12"/>
          <a:stretch/>
        </p:blipFill>
        <p:spPr>
          <a:xfrm>
            <a:off x="7412040" y="596736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"/>
          <p:cNvSpPr/>
          <p:nvPr/>
        </p:nvSpPr>
        <p:spPr>
          <a:xfrm>
            <a:off x="8152920" y="460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Рисунок 1" descr=""/>
          <p:cNvPicPr/>
          <p:nvPr/>
        </p:nvPicPr>
        <p:blipFill>
          <a:blip r:embed="rId13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939960" y="281160"/>
            <a:ext cx="8229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сполнение бюджета муниципального образования «Можгинский район»     за 2015 год  по муниципальным программа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Прямоугольник 1"/>
          <p:cNvSpPr/>
          <p:nvPr/>
        </p:nvSpPr>
        <p:spPr>
          <a:xfrm>
            <a:off x="8152920" y="460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Рисунок 11" descr=""/>
          <p:cNvPicPr/>
          <p:nvPr/>
        </p:nvPicPr>
        <p:blipFill>
          <a:blip r:embed="rId1"/>
          <a:srcRect l="0" t="49287" r="0" b="0"/>
          <a:stretch/>
        </p:blipFill>
        <p:spPr>
          <a:xfrm>
            <a:off x="863640" y="1339920"/>
            <a:ext cx="365040" cy="345960"/>
          </a:xfrm>
          <a:prstGeom prst="rect">
            <a:avLst/>
          </a:prstGeom>
          <a:ln w="0">
            <a:noFill/>
          </a:ln>
        </p:spPr>
      </p:pic>
      <p:grpSp>
        <p:nvGrpSpPr>
          <p:cNvPr id="352" name="TextBox 5"/>
          <p:cNvGrpSpPr/>
          <p:nvPr/>
        </p:nvGrpSpPr>
        <p:grpSpPr>
          <a:xfrm>
            <a:off x="1231920" y="1341360"/>
            <a:ext cx="4290840" cy="341280"/>
            <a:chOff x="1231920" y="1341360"/>
            <a:chExt cx="4290840" cy="341280"/>
          </a:xfrm>
        </p:grpSpPr>
        <p:pic>
          <p:nvPicPr>
            <p:cNvPr id="353" name="TextBox 5" descr=""/>
            <p:cNvPicPr/>
            <p:nvPr/>
          </p:nvPicPr>
          <p:blipFill>
            <a:blip r:embed="rId2"/>
            <a:stretch/>
          </p:blipFill>
          <p:spPr>
            <a:xfrm>
              <a:off x="1231920" y="1341360"/>
              <a:ext cx="42908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247760" y="1359000"/>
              <a:ext cx="42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звитие образования и воспитани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TextBox 6"/>
          <p:cNvGrpSpPr/>
          <p:nvPr/>
        </p:nvGrpSpPr>
        <p:grpSpPr>
          <a:xfrm>
            <a:off x="5694480" y="1316160"/>
            <a:ext cx="1108080" cy="341280"/>
            <a:chOff x="5694480" y="1316160"/>
            <a:chExt cx="1108080" cy="341280"/>
          </a:xfrm>
        </p:grpSpPr>
        <p:pic>
          <p:nvPicPr>
            <p:cNvPr id="356" name="TextBox 6" descr=""/>
            <p:cNvPicPr/>
            <p:nvPr/>
          </p:nvPicPr>
          <p:blipFill>
            <a:blip r:embed="rId3"/>
            <a:stretch/>
          </p:blipFill>
          <p:spPr>
            <a:xfrm>
              <a:off x="5694480" y="1316160"/>
              <a:ext cx="11080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708520" y="133344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9 984,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TextBox 7"/>
          <p:cNvGrpSpPr/>
          <p:nvPr/>
        </p:nvGrpSpPr>
        <p:grpSpPr>
          <a:xfrm>
            <a:off x="6973920" y="1311120"/>
            <a:ext cx="1066680" cy="341640"/>
            <a:chOff x="6973920" y="1311120"/>
            <a:chExt cx="1066680" cy="341640"/>
          </a:xfrm>
        </p:grpSpPr>
        <p:pic>
          <p:nvPicPr>
            <p:cNvPr id="359" name="TextBox 7" descr=""/>
            <p:cNvPicPr/>
            <p:nvPr/>
          </p:nvPicPr>
          <p:blipFill>
            <a:blip r:embed="rId4"/>
            <a:stretch/>
          </p:blipFill>
          <p:spPr>
            <a:xfrm>
              <a:off x="6973920" y="1311120"/>
              <a:ext cx="10666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989760" y="132732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7 709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61" name="Рисунок 11" descr=""/>
          <p:cNvPicPr/>
          <p:nvPr/>
        </p:nvPicPr>
        <p:blipFill>
          <a:blip r:embed="rId5"/>
          <a:srcRect l="0" t="49287" r="0" b="0"/>
          <a:stretch/>
        </p:blipFill>
        <p:spPr>
          <a:xfrm>
            <a:off x="861840" y="1833480"/>
            <a:ext cx="365400" cy="3463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1" descr=""/>
          <p:cNvPicPr/>
          <p:nvPr/>
        </p:nvPicPr>
        <p:blipFill>
          <a:blip r:embed="rId6"/>
          <a:srcRect l="0" t="49287" r="0" b="0"/>
          <a:stretch/>
        </p:blipFill>
        <p:spPr>
          <a:xfrm>
            <a:off x="858960" y="2363760"/>
            <a:ext cx="365040" cy="34596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11" descr=""/>
          <p:cNvPicPr/>
          <p:nvPr/>
        </p:nvPicPr>
        <p:blipFill>
          <a:blip r:embed="rId7"/>
          <a:srcRect l="0" t="49287" r="0" b="0"/>
          <a:stretch/>
        </p:blipFill>
        <p:spPr>
          <a:xfrm>
            <a:off x="865080" y="4387680"/>
            <a:ext cx="365400" cy="3463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11" descr=""/>
          <p:cNvPicPr/>
          <p:nvPr/>
        </p:nvPicPr>
        <p:blipFill>
          <a:blip r:embed="rId8"/>
          <a:srcRect l="0" t="49287" r="0" b="0"/>
          <a:stretch/>
        </p:blipFill>
        <p:spPr>
          <a:xfrm>
            <a:off x="857160" y="5551560"/>
            <a:ext cx="365040" cy="3445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1" descr=""/>
          <p:cNvPicPr/>
          <p:nvPr/>
        </p:nvPicPr>
        <p:blipFill>
          <a:blip r:embed="rId9"/>
          <a:srcRect l="0" t="49287" r="0" b="0"/>
          <a:stretch/>
        </p:blipFill>
        <p:spPr>
          <a:xfrm>
            <a:off x="855720" y="5997600"/>
            <a:ext cx="365040" cy="34596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1" descr=""/>
          <p:cNvPicPr/>
          <p:nvPr/>
        </p:nvPicPr>
        <p:blipFill>
          <a:blip r:embed="rId10"/>
          <a:srcRect l="0" t="49287" r="0" b="0"/>
          <a:stretch/>
        </p:blipFill>
        <p:spPr>
          <a:xfrm>
            <a:off x="858960" y="5018040"/>
            <a:ext cx="365040" cy="34596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1" descr=""/>
          <p:cNvPicPr/>
          <p:nvPr/>
        </p:nvPicPr>
        <p:blipFill>
          <a:blip r:embed="rId11"/>
          <a:srcRect l="0" t="49287" r="0" b="0"/>
          <a:stretch/>
        </p:blipFill>
        <p:spPr>
          <a:xfrm>
            <a:off x="861840" y="2811600"/>
            <a:ext cx="365400" cy="3445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1" descr=""/>
          <p:cNvPicPr/>
          <p:nvPr/>
        </p:nvPicPr>
        <p:blipFill>
          <a:blip r:embed="rId12"/>
          <a:srcRect l="0" t="49287" r="0" b="0"/>
          <a:stretch/>
        </p:blipFill>
        <p:spPr>
          <a:xfrm>
            <a:off x="858960" y="3341520"/>
            <a:ext cx="365040" cy="3445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1" descr=""/>
          <p:cNvPicPr/>
          <p:nvPr/>
        </p:nvPicPr>
        <p:blipFill>
          <a:blip r:embed="rId13"/>
          <a:srcRect l="0" t="49287" r="0" b="0"/>
          <a:stretch/>
        </p:blipFill>
        <p:spPr>
          <a:xfrm>
            <a:off x="865080" y="3879720"/>
            <a:ext cx="365400" cy="344520"/>
          </a:xfrm>
          <a:prstGeom prst="rect">
            <a:avLst/>
          </a:prstGeom>
          <a:ln w="0">
            <a:noFill/>
          </a:ln>
        </p:spPr>
      </p:pic>
      <p:grpSp>
        <p:nvGrpSpPr>
          <p:cNvPr id="370" name="TextBox 17"/>
          <p:cNvGrpSpPr/>
          <p:nvPr/>
        </p:nvGrpSpPr>
        <p:grpSpPr>
          <a:xfrm>
            <a:off x="1231920" y="1736640"/>
            <a:ext cx="4290840" cy="555840"/>
            <a:chOff x="1231920" y="1736640"/>
            <a:chExt cx="4290840" cy="555840"/>
          </a:xfrm>
        </p:grpSpPr>
        <p:pic>
          <p:nvPicPr>
            <p:cNvPr id="371" name="TextBox 17" descr=""/>
            <p:cNvPicPr/>
            <p:nvPr/>
          </p:nvPicPr>
          <p:blipFill>
            <a:blip r:embed="rId14"/>
            <a:stretch/>
          </p:blipFill>
          <p:spPr>
            <a:xfrm>
              <a:off x="1231920" y="1736640"/>
              <a:ext cx="42908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247760" y="1752480"/>
              <a:ext cx="426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99ff"/>
                  </a:solidFill>
                  <a:latin typeface="Arial"/>
                  <a:ea typeface="Arial"/>
                </a:rPr>
                <a:t>Охрана здоровья и формирование здорового образа жизни населени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3" name="TextBox 18"/>
          <p:cNvGrpSpPr/>
          <p:nvPr/>
        </p:nvGrpSpPr>
        <p:grpSpPr>
          <a:xfrm>
            <a:off x="1238400" y="2382840"/>
            <a:ext cx="4290840" cy="336600"/>
            <a:chOff x="1238400" y="2382840"/>
            <a:chExt cx="4290840" cy="336600"/>
          </a:xfrm>
        </p:grpSpPr>
        <p:pic>
          <p:nvPicPr>
            <p:cNvPr id="374" name="TextBox 18" descr=""/>
            <p:cNvPicPr/>
            <p:nvPr/>
          </p:nvPicPr>
          <p:blipFill>
            <a:blip r:embed="rId15"/>
            <a:stretch/>
          </p:blipFill>
          <p:spPr>
            <a:xfrm>
              <a:off x="1238400" y="2382840"/>
              <a:ext cx="429084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255680" y="2398680"/>
              <a:ext cx="42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звитие культур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6" name="TextBox 19"/>
          <p:cNvGrpSpPr/>
          <p:nvPr/>
        </p:nvGrpSpPr>
        <p:grpSpPr>
          <a:xfrm>
            <a:off x="1238400" y="2816280"/>
            <a:ext cx="4290840" cy="341280"/>
            <a:chOff x="1238400" y="2816280"/>
            <a:chExt cx="4290840" cy="341280"/>
          </a:xfrm>
        </p:grpSpPr>
        <p:pic>
          <p:nvPicPr>
            <p:cNvPr id="377" name="TextBox 19" descr=""/>
            <p:cNvPicPr/>
            <p:nvPr/>
          </p:nvPicPr>
          <p:blipFill>
            <a:blip r:embed="rId16"/>
            <a:stretch/>
          </p:blipFill>
          <p:spPr>
            <a:xfrm>
              <a:off x="1238400" y="2816280"/>
              <a:ext cx="42908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255680" y="2832120"/>
              <a:ext cx="42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99ff"/>
                  </a:solidFill>
                  <a:latin typeface="Arial"/>
                  <a:ea typeface="Arial"/>
                </a:rPr>
                <a:t>Социальная поддержка населени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9" name="TextBox 20"/>
          <p:cNvGrpSpPr/>
          <p:nvPr/>
        </p:nvGrpSpPr>
        <p:grpSpPr>
          <a:xfrm>
            <a:off x="1243080" y="3243240"/>
            <a:ext cx="4309920" cy="554040"/>
            <a:chOff x="1243080" y="3243240"/>
            <a:chExt cx="4309920" cy="554040"/>
          </a:xfrm>
        </p:grpSpPr>
        <p:pic>
          <p:nvPicPr>
            <p:cNvPr id="380" name="TextBox 20" descr=""/>
            <p:cNvPicPr/>
            <p:nvPr/>
          </p:nvPicPr>
          <p:blipFill>
            <a:blip r:embed="rId17"/>
            <a:stretch/>
          </p:blipFill>
          <p:spPr>
            <a:xfrm>
              <a:off x="1243080" y="3243240"/>
              <a:ext cx="43099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260360" y="3257640"/>
              <a:ext cx="427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здание условий для устойчивого экономического развити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" name="TextBox 21"/>
          <p:cNvGrpSpPr/>
          <p:nvPr/>
        </p:nvGrpSpPr>
        <p:grpSpPr>
          <a:xfrm>
            <a:off x="1243080" y="3882960"/>
            <a:ext cx="4309920" cy="335160"/>
            <a:chOff x="1243080" y="3882960"/>
            <a:chExt cx="4309920" cy="335160"/>
          </a:xfrm>
        </p:grpSpPr>
        <p:pic>
          <p:nvPicPr>
            <p:cNvPr id="383" name="TextBox 21" descr=""/>
            <p:cNvPicPr/>
            <p:nvPr/>
          </p:nvPicPr>
          <p:blipFill>
            <a:blip r:embed="rId18"/>
            <a:stretch/>
          </p:blipFill>
          <p:spPr>
            <a:xfrm>
              <a:off x="1243080" y="3882960"/>
              <a:ext cx="430992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1260360" y="3897360"/>
              <a:ext cx="42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99ff"/>
                  </a:solidFill>
                  <a:latin typeface="Arial"/>
                  <a:ea typeface="Arial"/>
                </a:rPr>
                <a:t>Безопасность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" name="TextBox 22"/>
          <p:cNvGrpSpPr/>
          <p:nvPr/>
        </p:nvGrpSpPr>
        <p:grpSpPr>
          <a:xfrm>
            <a:off x="1238400" y="4309920"/>
            <a:ext cx="4290840" cy="547920"/>
            <a:chOff x="1238400" y="4309920"/>
            <a:chExt cx="4290840" cy="547920"/>
          </a:xfrm>
        </p:grpSpPr>
        <p:pic>
          <p:nvPicPr>
            <p:cNvPr id="386" name="TextBox 22" descr=""/>
            <p:cNvPicPr/>
            <p:nvPr/>
          </p:nvPicPr>
          <p:blipFill>
            <a:blip r:embed="rId19"/>
            <a:stretch/>
          </p:blipFill>
          <p:spPr>
            <a:xfrm>
              <a:off x="1238400" y="4309920"/>
              <a:ext cx="429084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1255680" y="4322880"/>
              <a:ext cx="426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держание и развитие муниципального хозяйств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8" name="TextBox 23"/>
          <p:cNvGrpSpPr/>
          <p:nvPr/>
        </p:nvGrpSpPr>
        <p:grpSpPr>
          <a:xfrm>
            <a:off x="1231920" y="4950000"/>
            <a:ext cx="4290840" cy="555480"/>
            <a:chOff x="1231920" y="4950000"/>
            <a:chExt cx="4290840" cy="555480"/>
          </a:xfrm>
        </p:grpSpPr>
        <p:pic>
          <p:nvPicPr>
            <p:cNvPr id="389" name="TextBox 23" descr=""/>
            <p:cNvPicPr/>
            <p:nvPr/>
          </p:nvPicPr>
          <p:blipFill>
            <a:blip r:embed="rId20"/>
            <a:stretch/>
          </p:blipFill>
          <p:spPr>
            <a:xfrm>
              <a:off x="1231920" y="4950000"/>
              <a:ext cx="429084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247760" y="4964040"/>
              <a:ext cx="426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99ff"/>
                  </a:solidFill>
                  <a:latin typeface="Arial"/>
                  <a:ea typeface="Arial"/>
                </a:rPr>
                <a:t>Энергосбережение и повышение энергетической эффективност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1" name="TextBox 24"/>
          <p:cNvGrpSpPr/>
          <p:nvPr/>
        </p:nvGrpSpPr>
        <p:grpSpPr>
          <a:xfrm>
            <a:off x="1231920" y="5572080"/>
            <a:ext cx="4284720" cy="341280"/>
            <a:chOff x="1231920" y="5572080"/>
            <a:chExt cx="4284720" cy="341280"/>
          </a:xfrm>
        </p:grpSpPr>
        <p:pic>
          <p:nvPicPr>
            <p:cNvPr id="392" name="TextBox 24" descr=""/>
            <p:cNvPicPr/>
            <p:nvPr/>
          </p:nvPicPr>
          <p:blipFill>
            <a:blip r:embed="rId21"/>
            <a:stretch/>
          </p:blipFill>
          <p:spPr>
            <a:xfrm>
              <a:off x="1231920" y="5572080"/>
              <a:ext cx="428472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247760" y="5587920"/>
              <a:ext cx="42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муниципальными финансам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4" name="TextBox 25"/>
          <p:cNvGrpSpPr/>
          <p:nvPr/>
        </p:nvGrpSpPr>
        <p:grpSpPr>
          <a:xfrm>
            <a:off x="1238400" y="6029280"/>
            <a:ext cx="4284360" cy="341280"/>
            <a:chOff x="1238400" y="6029280"/>
            <a:chExt cx="4284360" cy="341280"/>
          </a:xfrm>
        </p:grpSpPr>
        <p:pic>
          <p:nvPicPr>
            <p:cNvPr id="395" name="TextBox 25" descr=""/>
            <p:cNvPicPr/>
            <p:nvPr/>
          </p:nvPicPr>
          <p:blipFill>
            <a:blip r:embed="rId22"/>
            <a:stretch/>
          </p:blipFill>
          <p:spPr>
            <a:xfrm>
              <a:off x="1238400" y="6029280"/>
              <a:ext cx="4284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255680" y="6045120"/>
              <a:ext cx="42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99ff"/>
                  </a:solidFill>
                  <a:latin typeface="Arial"/>
                  <a:ea typeface="Arial"/>
                </a:rPr>
                <a:t>Муниципальное управлени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7" name="TextBox 26"/>
          <p:cNvGrpSpPr/>
          <p:nvPr/>
        </p:nvGrpSpPr>
        <p:grpSpPr>
          <a:xfrm>
            <a:off x="5778360" y="1835280"/>
            <a:ext cx="1000440" cy="334800"/>
            <a:chOff x="5778360" y="1835280"/>
            <a:chExt cx="1000440" cy="334800"/>
          </a:xfrm>
        </p:grpSpPr>
        <p:pic>
          <p:nvPicPr>
            <p:cNvPr id="398" name="TextBox 26" descr=""/>
            <p:cNvPicPr/>
            <p:nvPr/>
          </p:nvPicPr>
          <p:blipFill>
            <a:blip r:embed="rId23"/>
            <a:stretch/>
          </p:blipFill>
          <p:spPr>
            <a:xfrm>
              <a:off x="5778360" y="1835280"/>
              <a:ext cx="100044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796000" y="184932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549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" name="TextBox 27"/>
          <p:cNvGrpSpPr/>
          <p:nvPr/>
        </p:nvGrpSpPr>
        <p:grpSpPr>
          <a:xfrm>
            <a:off x="5784840" y="2382840"/>
            <a:ext cx="1000080" cy="336600"/>
            <a:chOff x="5784840" y="2382840"/>
            <a:chExt cx="1000080" cy="336600"/>
          </a:xfrm>
        </p:grpSpPr>
        <p:pic>
          <p:nvPicPr>
            <p:cNvPr id="401" name="TextBox 27" descr=""/>
            <p:cNvPicPr/>
            <p:nvPr/>
          </p:nvPicPr>
          <p:blipFill>
            <a:blip r:embed="rId24"/>
            <a:stretch/>
          </p:blipFill>
          <p:spPr>
            <a:xfrm>
              <a:off x="5784840" y="2382840"/>
              <a:ext cx="10000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802480" y="239868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8 294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3" name="TextBox 28"/>
          <p:cNvGrpSpPr/>
          <p:nvPr/>
        </p:nvGrpSpPr>
        <p:grpSpPr>
          <a:xfrm>
            <a:off x="5784840" y="2798640"/>
            <a:ext cx="993960" cy="335160"/>
            <a:chOff x="5784840" y="2798640"/>
            <a:chExt cx="993960" cy="335160"/>
          </a:xfrm>
        </p:grpSpPr>
        <p:pic>
          <p:nvPicPr>
            <p:cNvPr id="404" name="TextBox 28" descr=""/>
            <p:cNvPicPr/>
            <p:nvPr/>
          </p:nvPicPr>
          <p:blipFill>
            <a:blip r:embed="rId25"/>
            <a:stretch/>
          </p:blipFill>
          <p:spPr>
            <a:xfrm>
              <a:off x="5784840" y="2798640"/>
              <a:ext cx="99396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799240" y="281160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 85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6" name="TextBox 29"/>
          <p:cNvGrpSpPr/>
          <p:nvPr/>
        </p:nvGrpSpPr>
        <p:grpSpPr>
          <a:xfrm>
            <a:off x="5778360" y="3328920"/>
            <a:ext cx="1000440" cy="335160"/>
            <a:chOff x="5778360" y="3328920"/>
            <a:chExt cx="1000440" cy="335160"/>
          </a:xfrm>
        </p:grpSpPr>
        <p:pic>
          <p:nvPicPr>
            <p:cNvPr id="407" name="TextBox 29" descr=""/>
            <p:cNvPicPr/>
            <p:nvPr/>
          </p:nvPicPr>
          <p:blipFill>
            <a:blip r:embed="rId26"/>
            <a:stretch/>
          </p:blipFill>
          <p:spPr>
            <a:xfrm>
              <a:off x="5778360" y="3328920"/>
              <a:ext cx="10004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5796000" y="334152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8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9" name="TextBox 30"/>
          <p:cNvGrpSpPr/>
          <p:nvPr/>
        </p:nvGrpSpPr>
        <p:grpSpPr>
          <a:xfrm>
            <a:off x="5778360" y="3889440"/>
            <a:ext cx="1000440" cy="334800"/>
            <a:chOff x="5778360" y="3889440"/>
            <a:chExt cx="1000440" cy="334800"/>
          </a:xfrm>
        </p:grpSpPr>
        <p:pic>
          <p:nvPicPr>
            <p:cNvPr id="410" name="TextBox 30" descr=""/>
            <p:cNvPicPr/>
            <p:nvPr/>
          </p:nvPicPr>
          <p:blipFill>
            <a:blip r:embed="rId27"/>
            <a:stretch/>
          </p:blipFill>
          <p:spPr>
            <a:xfrm>
              <a:off x="5778360" y="3889440"/>
              <a:ext cx="100044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796000" y="390204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2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TextBox 31"/>
          <p:cNvGrpSpPr/>
          <p:nvPr/>
        </p:nvGrpSpPr>
        <p:grpSpPr>
          <a:xfrm>
            <a:off x="5724360" y="4389480"/>
            <a:ext cx="1109880" cy="341280"/>
            <a:chOff x="5724360" y="4389480"/>
            <a:chExt cx="1109880" cy="341280"/>
          </a:xfrm>
        </p:grpSpPr>
        <p:pic>
          <p:nvPicPr>
            <p:cNvPr id="413" name="TextBox 31" descr=""/>
            <p:cNvPicPr/>
            <p:nvPr/>
          </p:nvPicPr>
          <p:blipFill>
            <a:blip r:embed="rId28"/>
            <a:stretch/>
          </p:blipFill>
          <p:spPr>
            <a:xfrm>
              <a:off x="5724360" y="4389480"/>
              <a:ext cx="1109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740560" y="440676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3 103,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TextBox 32"/>
          <p:cNvGrpSpPr/>
          <p:nvPr/>
        </p:nvGrpSpPr>
        <p:grpSpPr>
          <a:xfrm>
            <a:off x="5748480" y="5016600"/>
            <a:ext cx="1000080" cy="336600"/>
            <a:chOff x="5748480" y="5016600"/>
            <a:chExt cx="1000080" cy="336600"/>
          </a:xfrm>
        </p:grpSpPr>
        <p:pic>
          <p:nvPicPr>
            <p:cNvPr id="416" name="TextBox 32" descr=""/>
            <p:cNvPicPr/>
            <p:nvPr/>
          </p:nvPicPr>
          <p:blipFill>
            <a:blip r:embed="rId29"/>
            <a:stretch/>
          </p:blipFill>
          <p:spPr>
            <a:xfrm>
              <a:off x="5748480" y="5016600"/>
              <a:ext cx="10000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765760" y="503064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 416,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8" name="TextBox 33"/>
          <p:cNvGrpSpPr/>
          <p:nvPr/>
        </p:nvGrpSpPr>
        <p:grpSpPr>
          <a:xfrm>
            <a:off x="5778360" y="5553000"/>
            <a:ext cx="1000440" cy="341280"/>
            <a:chOff x="5778360" y="5553000"/>
            <a:chExt cx="1000440" cy="341280"/>
          </a:xfrm>
        </p:grpSpPr>
        <p:pic>
          <p:nvPicPr>
            <p:cNvPr id="419" name="TextBox 33" descr=""/>
            <p:cNvPicPr/>
            <p:nvPr/>
          </p:nvPicPr>
          <p:blipFill>
            <a:blip r:embed="rId30"/>
            <a:stretch/>
          </p:blipFill>
          <p:spPr>
            <a:xfrm>
              <a:off x="5778360" y="5553000"/>
              <a:ext cx="10004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796000" y="557064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 796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1" name="TextBox 34"/>
          <p:cNvGrpSpPr/>
          <p:nvPr/>
        </p:nvGrpSpPr>
        <p:grpSpPr>
          <a:xfrm>
            <a:off x="5778360" y="6016680"/>
            <a:ext cx="1000440" cy="341280"/>
            <a:chOff x="5778360" y="6016680"/>
            <a:chExt cx="1000440" cy="341280"/>
          </a:xfrm>
        </p:grpSpPr>
        <p:pic>
          <p:nvPicPr>
            <p:cNvPr id="422" name="TextBox 34" descr=""/>
            <p:cNvPicPr/>
            <p:nvPr/>
          </p:nvPicPr>
          <p:blipFill>
            <a:blip r:embed="rId31"/>
            <a:stretch/>
          </p:blipFill>
          <p:spPr>
            <a:xfrm>
              <a:off x="5778360" y="6016680"/>
              <a:ext cx="10004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5796000" y="603252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 712,4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4" name="TextBox 35"/>
          <p:cNvGrpSpPr/>
          <p:nvPr/>
        </p:nvGrpSpPr>
        <p:grpSpPr>
          <a:xfrm>
            <a:off x="6973920" y="1816200"/>
            <a:ext cx="1066680" cy="341280"/>
            <a:chOff x="6973920" y="1816200"/>
            <a:chExt cx="1066680" cy="341280"/>
          </a:xfrm>
        </p:grpSpPr>
        <p:pic>
          <p:nvPicPr>
            <p:cNvPr id="425" name="TextBox 35" descr=""/>
            <p:cNvPicPr/>
            <p:nvPr/>
          </p:nvPicPr>
          <p:blipFill>
            <a:blip r:embed="rId32"/>
            <a:stretch/>
          </p:blipFill>
          <p:spPr>
            <a:xfrm>
              <a:off x="6973920" y="1816200"/>
              <a:ext cx="10666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989760" y="183348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539,6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TextBox 36"/>
          <p:cNvGrpSpPr/>
          <p:nvPr/>
        </p:nvGrpSpPr>
        <p:grpSpPr>
          <a:xfrm>
            <a:off x="6973920" y="2382840"/>
            <a:ext cx="1066680" cy="336600"/>
            <a:chOff x="6973920" y="2382840"/>
            <a:chExt cx="1066680" cy="336600"/>
          </a:xfrm>
        </p:grpSpPr>
        <p:pic>
          <p:nvPicPr>
            <p:cNvPr id="428" name="TextBox 36" descr=""/>
            <p:cNvPicPr/>
            <p:nvPr/>
          </p:nvPicPr>
          <p:blipFill>
            <a:blip r:embed="rId33"/>
            <a:stretch/>
          </p:blipFill>
          <p:spPr>
            <a:xfrm>
              <a:off x="6973920" y="2382840"/>
              <a:ext cx="1066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6989760" y="239868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269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0" name="TextBox 37"/>
          <p:cNvGrpSpPr/>
          <p:nvPr/>
        </p:nvGrpSpPr>
        <p:grpSpPr>
          <a:xfrm>
            <a:off x="6973920" y="2792520"/>
            <a:ext cx="1066680" cy="341280"/>
            <a:chOff x="6973920" y="2792520"/>
            <a:chExt cx="1066680" cy="341280"/>
          </a:xfrm>
        </p:grpSpPr>
        <p:pic>
          <p:nvPicPr>
            <p:cNvPr id="431" name="TextBox 37" descr=""/>
            <p:cNvPicPr/>
            <p:nvPr/>
          </p:nvPicPr>
          <p:blipFill>
            <a:blip r:embed="rId34"/>
            <a:stretch/>
          </p:blipFill>
          <p:spPr>
            <a:xfrm>
              <a:off x="6973920" y="2792520"/>
              <a:ext cx="10666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989760" y="280836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02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TextBox 38"/>
          <p:cNvGrpSpPr/>
          <p:nvPr/>
        </p:nvGrpSpPr>
        <p:grpSpPr>
          <a:xfrm>
            <a:off x="6973920" y="3328920"/>
            <a:ext cx="1066680" cy="335160"/>
            <a:chOff x="6973920" y="3328920"/>
            <a:chExt cx="1066680" cy="335160"/>
          </a:xfrm>
        </p:grpSpPr>
        <p:pic>
          <p:nvPicPr>
            <p:cNvPr id="434" name="TextBox 38" descr=""/>
            <p:cNvPicPr/>
            <p:nvPr/>
          </p:nvPicPr>
          <p:blipFill>
            <a:blip r:embed="rId35"/>
            <a:stretch/>
          </p:blipFill>
          <p:spPr>
            <a:xfrm>
              <a:off x="6973920" y="3328920"/>
              <a:ext cx="10666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989760" y="334152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8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6" name="TextBox 39"/>
          <p:cNvGrpSpPr/>
          <p:nvPr/>
        </p:nvGrpSpPr>
        <p:grpSpPr>
          <a:xfrm>
            <a:off x="6973920" y="3882960"/>
            <a:ext cx="1066680" cy="335160"/>
            <a:chOff x="6973920" y="3882960"/>
            <a:chExt cx="1066680" cy="335160"/>
          </a:xfrm>
        </p:grpSpPr>
        <p:pic>
          <p:nvPicPr>
            <p:cNvPr id="437" name="TextBox 39" descr=""/>
            <p:cNvPicPr/>
            <p:nvPr/>
          </p:nvPicPr>
          <p:blipFill>
            <a:blip r:embed="rId36"/>
            <a:stretch/>
          </p:blipFill>
          <p:spPr>
            <a:xfrm>
              <a:off x="6973920" y="3882960"/>
              <a:ext cx="10666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6989760" y="389736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2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9" name="TextBox 40"/>
          <p:cNvGrpSpPr/>
          <p:nvPr/>
        </p:nvGrpSpPr>
        <p:grpSpPr>
          <a:xfrm>
            <a:off x="6973920" y="4438800"/>
            <a:ext cx="1066680" cy="341280"/>
            <a:chOff x="6973920" y="4438800"/>
            <a:chExt cx="1066680" cy="341280"/>
          </a:xfrm>
        </p:grpSpPr>
        <p:pic>
          <p:nvPicPr>
            <p:cNvPr id="440" name="TextBox 40" descr=""/>
            <p:cNvPicPr/>
            <p:nvPr/>
          </p:nvPicPr>
          <p:blipFill>
            <a:blip r:embed="rId37"/>
            <a:stretch/>
          </p:blipFill>
          <p:spPr>
            <a:xfrm>
              <a:off x="6973920" y="4438800"/>
              <a:ext cx="10666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6989760" y="445464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 025,6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2" name="TextBox 41"/>
          <p:cNvGrpSpPr/>
          <p:nvPr/>
        </p:nvGrpSpPr>
        <p:grpSpPr>
          <a:xfrm>
            <a:off x="6973920" y="5016600"/>
            <a:ext cx="1066680" cy="336600"/>
            <a:chOff x="6973920" y="5016600"/>
            <a:chExt cx="1066680" cy="336600"/>
          </a:xfrm>
        </p:grpSpPr>
        <p:pic>
          <p:nvPicPr>
            <p:cNvPr id="443" name="TextBox 41" descr=""/>
            <p:cNvPicPr/>
            <p:nvPr/>
          </p:nvPicPr>
          <p:blipFill>
            <a:blip r:embed="rId38"/>
            <a:stretch/>
          </p:blipFill>
          <p:spPr>
            <a:xfrm>
              <a:off x="6973920" y="5016600"/>
              <a:ext cx="1066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989760" y="503244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484,6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TextBox 42"/>
          <p:cNvGrpSpPr/>
          <p:nvPr/>
        </p:nvGrpSpPr>
        <p:grpSpPr>
          <a:xfrm>
            <a:off x="6973920" y="5535720"/>
            <a:ext cx="1066680" cy="341280"/>
            <a:chOff x="6973920" y="5535720"/>
            <a:chExt cx="1066680" cy="341280"/>
          </a:xfrm>
        </p:grpSpPr>
        <p:pic>
          <p:nvPicPr>
            <p:cNvPr id="446" name="TextBox 42" descr=""/>
            <p:cNvPicPr/>
            <p:nvPr/>
          </p:nvPicPr>
          <p:blipFill>
            <a:blip r:embed="rId39"/>
            <a:stretch/>
          </p:blipFill>
          <p:spPr>
            <a:xfrm>
              <a:off x="6973920" y="5535720"/>
              <a:ext cx="10666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6989760" y="555156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 628,6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8" name="TextBox 43"/>
          <p:cNvGrpSpPr/>
          <p:nvPr/>
        </p:nvGrpSpPr>
        <p:grpSpPr>
          <a:xfrm>
            <a:off x="6973920" y="5999040"/>
            <a:ext cx="1066680" cy="341280"/>
            <a:chOff x="6973920" y="5999040"/>
            <a:chExt cx="1066680" cy="341280"/>
          </a:xfrm>
        </p:grpSpPr>
        <p:pic>
          <p:nvPicPr>
            <p:cNvPr id="449" name="TextBox 43" descr=""/>
            <p:cNvPicPr/>
            <p:nvPr/>
          </p:nvPicPr>
          <p:blipFill>
            <a:blip r:embed="rId40"/>
            <a:stretch/>
          </p:blipFill>
          <p:spPr>
            <a:xfrm>
              <a:off x="6973920" y="5999040"/>
              <a:ext cx="10666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989760" y="601668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 467,4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1" name="TextBox 44"/>
          <p:cNvGrpSpPr/>
          <p:nvPr/>
        </p:nvGrpSpPr>
        <p:grpSpPr>
          <a:xfrm>
            <a:off x="8296200" y="1311120"/>
            <a:ext cx="695520" cy="341640"/>
            <a:chOff x="8296200" y="1311120"/>
            <a:chExt cx="695520" cy="341640"/>
          </a:xfrm>
        </p:grpSpPr>
        <p:pic>
          <p:nvPicPr>
            <p:cNvPr id="452" name="TextBox 44" descr=""/>
            <p:cNvPicPr/>
            <p:nvPr/>
          </p:nvPicPr>
          <p:blipFill>
            <a:blip r:embed="rId41"/>
            <a:stretch/>
          </p:blipFill>
          <p:spPr>
            <a:xfrm>
              <a:off x="8296200" y="1311120"/>
              <a:ext cx="69552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8313840" y="132732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7,6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4" name="TextBox 45"/>
          <p:cNvGrpSpPr/>
          <p:nvPr/>
        </p:nvGrpSpPr>
        <p:grpSpPr>
          <a:xfrm>
            <a:off x="8296200" y="1822320"/>
            <a:ext cx="695520" cy="335160"/>
            <a:chOff x="8296200" y="1822320"/>
            <a:chExt cx="695520" cy="335160"/>
          </a:xfrm>
        </p:grpSpPr>
        <p:pic>
          <p:nvPicPr>
            <p:cNvPr id="455" name="TextBox 45" descr=""/>
            <p:cNvPicPr/>
            <p:nvPr/>
          </p:nvPicPr>
          <p:blipFill>
            <a:blip r:embed="rId42"/>
            <a:stretch/>
          </p:blipFill>
          <p:spPr>
            <a:xfrm>
              <a:off x="8296200" y="1822320"/>
              <a:ext cx="69552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8313840" y="183672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,4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7" name="TextBox 46"/>
          <p:cNvGrpSpPr/>
          <p:nvPr/>
        </p:nvGrpSpPr>
        <p:grpSpPr>
          <a:xfrm>
            <a:off x="8296200" y="2382840"/>
            <a:ext cx="695520" cy="336600"/>
            <a:chOff x="8296200" y="2382840"/>
            <a:chExt cx="695520" cy="336600"/>
          </a:xfrm>
        </p:grpSpPr>
        <p:pic>
          <p:nvPicPr>
            <p:cNvPr id="458" name="TextBox 46" descr=""/>
            <p:cNvPicPr/>
            <p:nvPr/>
          </p:nvPicPr>
          <p:blipFill>
            <a:blip r:embed="rId43"/>
            <a:stretch/>
          </p:blipFill>
          <p:spPr>
            <a:xfrm>
              <a:off x="8296200" y="2382840"/>
              <a:ext cx="69552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8313840" y="239868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6,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0" name="TextBox 47"/>
          <p:cNvGrpSpPr/>
          <p:nvPr/>
        </p:nvGrpSpPr>
        <p:grpSpPr>
          <a:xfrm>
            <a:off x="8296200" y="2773440"/>
            <a:ext cx="695520" cy="341280"/>
            <a:chOff x="8296200" y="2773440"/>
            <a:chExt cx="695520" cy="341280"/>
          </a:xfrm>
        </p:grpSpPr>
        <p:pic>
          <p:nvPicPr>
            <p:cNvPr id="461" name="TextBox 47" descr=""/>
            <p:cNvPicPr/>
            <p:nvPr/>
          </p:nvPicPr>
          <p:blipFill>
            <a:blip r:embed="rId44"/>
            <a:stretch/>
          </p:blipFill>
          <p:spPr>
            <a:xfrm>
              <a:off x="8296200" y="2773440"/>
              <a:ext cx="69552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8313840" y="278928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,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TextBox 48"/>
          <p:cNvGrpSpPr/>
          <p:nvPr/>
        </p:nvGrpSpPr>
        <p:grpSpPr>
          <a:xfrm>
            <a:off x="8296200" y="3322800"/>
            <a:ext cx="695520" cy="341280"/>
            <a:chOff x="8296200" y="3322800"/>
            <a:chExt cx="695520" cy="341280"/>
          </a:xfrm>
        </p:grpSpPr>
        <p:pic>
          <p:nvPicPr>
            <p:cNvPr id="464" name="TextBox 48" descr=""/>
            <p:cNvPicPr/>
            <p:nvPr/>
          </p:nvPicPr>
          <p:blipFill>
            <a:blip r:embed="rId45"/>
            <a:stretch/>
          </p:blipFill>
          <p:spPr>
            <a:xfrm>
              <a:off x="8296200" y="3322800"/>
              <a:ext cx="69552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8313840" y="3340080"/>
              <a:ext cx="66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6" name="TextBox 49"/>
          <p:cNvGrpSpPr/>
          <p:nvPr/>
        </p:nvGrpSpPr>
        <p:grpSpPr>
          <a:xfrm>
            <a:off x="8290080" y="3882960"/>
            <a:ext cx="695160" cy="341280"/>
            <a:chOff x="8290080" y="3882960"/>
            <a:chExt cx="695160" cy="341280"/>
          </a:xfrm>
        </p:grpSpPr>
        <p:pic>
          <p:nvPicPr>
            <p:cNvPr id="467" name="TextBox 49" descr=""/>
            <p:cNvPicPr/>
            <p:nvPr/>
          </p:nvPicPr>
          <p:blipFill>
            <a:blip r:embed="rId46"/>
            <a:stretch/>
          </p:blipFill>
          <p:spPr>
            <a:xfrm>
              <a:off x="8290080" y="3882960"/>
              <a:ext cx="6951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8308800" y="390060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9" name="TextBox 50"/>
          <p:cNvGrpSpPr/>
          <p:nvPr/>
        </p:nvGrpSpPr>
        <p:grpSpPr>
          <a:xfrm>
            <a:off x="8290080" y="4413240"/>
            <a:ext cx="695160" cy="341280"/>
            <a:chOff x="8290080" y="4413240"/>
            <a:chExt cx="695160" cy="341280"/>
          </a:xfrm>
        </p:grpSpPr>
        <p:pic>
          <p:nvPicPr>
            <p:cNvPr id="470" name="TextBox 50" descr=""/>
            <p:cNvPicPr/>
            <p:nvPr/>
          </p:nvPicPr>
          <p:blipFill>
            <a:blip r:embed="rId47"/>
            <a:stretch/>
          </p:blipFill>
          <p:spPr>
            <a:xfrm>
              <a:off x="8290080" y="4413240"/>
              <a:ext cx="6951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8308800" y="443088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,4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TextBox 51"/>
          <p:cNvGrpSpPr/>
          <p:nvPr/>
        </p:nvGrpSpPr>
        <p:grpSpPr>
          <a:xfrm>
            <a:off x="8290080" y="5005440"/>
            <a:ext cx="695160" cy="334800"/>
            <a:chOff x="8290080" y="5005440"/>
            <a:chExt cx="695160" cy="334800"/>
          </a:xfrm>
        </p:grpSpPr>
        <p:pic>
          <p:nvPicPr>
            <p:cNvPr id="473" name="TextBox 51" descr=""/>
            <p:cNvPicPr/>
            <p:nvPr/>
          </p:nvPicPr>
          <p:blipFill>
            <a:blip r:embed="rId48"/>
            <a:stretch/>
          </p:blipFill>
          <p:spPr>
            <a:xfrm>
              <a:off x="8290080" y="5005440"/>
              <a:ext cx="69516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8308800" y="501984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7,4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5" name="TextBox 52"/>
          <p:cNvGrpSpPr/>
          <p:nvPr/>
        </p:nvGrpSpPr>
        <p:grpSpPr>
          <a:xfrm>
            <a:off x="8290080" y="5535720"/>
            <a:ext cx="695160" cy="341280"/>
            <a:chOff x="8290080" y="5535720"/>
            <a:chExt cx="695160" cy="341280"/>
          </a:xfrm>
        </p:grpSpPr>
        <p:pic>
          <p:nvPicPr>
            <p:cNvPr id="476" name="TextBox 52" descr=""/>
            <p:cNvPicPr/>
            <p:nvPr/>
          </p:nvPicPr>
          <p:blipFill>
            <a:blip r:embed="rId49"/>
            <a:stretch/>
          </p:blipFill>
          <p:spPr>
            <a:xfrm>
              <a:off x="8290080" y="5535720"/>
              <a:ext cx="6951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8308800" y="555156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,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" name="TextBox 53"/>
          <p:cNvGrpSpPr/>
          <p:nvPr/>
        </p:nvGrpSpPr>
        <p:grpSpPr>
          <a:xfrm>
            <a:off x="8290080" y="6016680"/>
            <a:ext cx="695160" cy="341280"/>
            <a:chOff x="8290080" y="6016680"/>
            <a:chExt cx="695160" cy="341280"/>
          </a:xfrm>
        </p:grpSpPr>
        <p:pic>
          <p:nvPicPr>
            <p:cNvPr id="479" name="TextBox 53" descr=""/>
            <p:cNvPicPr/>
            <p:nvPr/>
          </p:nvPicPr>
          <p:blipFill>
            <a:blip r:embed="rId50"/>
            <a:stretch/>
          </p:blipFill>
          <p:spPr>
            <a:xfrm>
              <a:off x="8290080" y="6016680"/>
              <a:ext cx="6951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8308800" y="603252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,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81" name="Рисунок 11" descr=""/>
          <p:cNvPicPr/>
          <p:nvPr/>
        </p:nvPicPr>
        <p:blipFill>
          <a:blip r:embed="rId51"/>
          <a:srcRect l="0" t="49287" r="0" b="0"/>
          <a:stretch/>
        </p:blipFill>
        <p:spPr>
          <a:xfrm>
            <a:off x="861840" y="6442200"/>
            <a:ext cx="365400" cy="344520"/>
          </a:xfrm>
          <a:prstGeom prst="rect">
            <a:avLst/>
          </a:prstGeom>
          <a:ln w="0">
            <a:noFill/>
          </a:ln>
        </p:spPr>
      </p:pic>
      <p:grpSp>
        <p:nvGrpSpPr>
          <p:cNvPr id="482" name="TextBox 55"/>
          <p:cNvGrpSpPr/>
          <p:nvPr/>
        </p:nvGrpSpPr>
        <p:grpSpPr>
          <a:xfrm>
            <a:off x="1268280" y="6461280"/>
            <a:ext cx="4284720" cy="341280"/>
            <a:chOff x="1268280" y="6461280"/>
            <a:chExt cx="4284720" cy="341280"/>
          </a:xfrm>
        </p:grpSpPr>
        <p:pic>
          <p:nvPicPr>
            <p:cNvPr id="483" name="TextBox 55" descr=""/>
            <p:cNvPicPr/>
            <p:nvPr/>
          </p:nvPicPr>
          <p:blipFill>
            <a:blip r:embed="rId52"/>
            <a:stretch/>
          </p:blipFill>
          <p:spPr>
            <a:xfrm>
              <a:off x="1268280" y="6461280"/>
              <a:ext cx="428472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84120" y="6478560"/>
              <a:ext cx="42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программные направления деятельност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5" name="TextBox 56"/>
          <p:cNvGrpSpPr/>
          <p:nvPr/>
        </p:nvGrpSpPr>
        <p:grpSpPr>
          <a:xfrm>
            <a:off x="5754600" y="6443640"/>
            <a:ext cx="993960" cy="341280"/>
            <a:chOff x="5754600" y="6443640"/>
            <a:chExt cx="993960" cy="341280"/>
          </a:xfrm>
        </p:grpSpPr>
        <p:pic>
          <p:nvPicPr>
            <p:cNvPr id="486" name="TextBox 56" descr=""/>
            <p:cNvPicPr/>
            <p:nvPr/>
          </p:nvPicPr>
          <p:blipFill>
            <a:blip r:embed="rId53"/>
            <a:stretch/>
          </p:blipFill>
          <p:spPr>
            <a:xfrm>
              <a:off x="5754600" y="6443640"/>
              <a:ext cx="9939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5770440" y="6459480"/>
              <a:ext cx="96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 738,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8" name="TextBox 57"/>
          <p:cNvGrpSpPr/>
          <p:nvPr/>
        </p:nvGrpSpPr>
        <p:grpSpPr>
          <a:xfrm>
            <a:off x="6973920" y="6424560"/>
            <a:ext cx="1066680" cy="336600"/>
            <a:chOff x="6973920" y="6424560"/>
            <a:chExt cx="1066680" cy="336600"/>
          </a:xfrm>
        </p:grpSpPr>
        <p:pic>
          <p:nvPicPr>
            <p:cNvPr id="489" name="TextBox 57" descr=""/>
            <p:cNvPicPr/>
            <p:nvPr/>
          </p:nvPicPr>
          <p:blipFill>
            <a:blip r:embed="rId54"/>
            <a:stretch/>
          </p:blipFill>
          <p:spPr>
            <a:xfrm>
              <a:off x="6973920" y="6424560"/>
              <a:ext cx="1066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989760" y="643896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 292,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" name="TextBox 58"/>
          <p:cNvGrpSpPr/>
          <p:nvPr/>
        </p:nvGrpSpPr>
        <p:grpSpPr>
          <a:xfrm>
            <a:off x="8290080" y="6424560"/>
            <a:ext cx="695160" cy="336600"/>
            <a:chOff x="8290080" y="6424560"/>
            <a:chExt cx="695160" cy="336600"/>
          </a:xfrm>
        </p:grpSpPr>
        <p:pic>
          <p:nvPicPr>
            <p:cNvPr id="492" name="TextBox 58" descr=""/>
            <p:cNvPicPr/>
            <p:nvPr/>
          </p:nvPicPr>
          <p:blipFill>
            <a:blip r:embed="rId55"/>
            <a:stretch/>
          </p:blipFill>
          <p:spPr>
            <a:xfrm>
              <a:off x="8290080" y="6424560"/>
              <a:ext cx="69516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8308800" y="6438960"/>
              <a:ext cx="6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7,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TextBox 59"/>
          <p:cNvGrpSpPr/>
          <p:nvPr/>
        </p:nvGrpSpPr>
        <p:grpSpPr>
          <a:xfrm>
            <a:off x="5694480" y="907920"/>
            <a:ext cx="1108080" cy="335160"/>
            <a:chOff x="5694480" y="907920"/>
            <a:chExt cx="1108080" cy="335160"/>
          </a:xfrm>
        </p:grpSpPr>
        <p:pic>
          <p:nvPicPr>
            <p:cNvPr id="495" name="TextBox 59" descr=""/>
            <p:cNvPicPr/>
            <p:nvPr/>
          </p:nvPicPr>
          <p:blipFill>
            <a:blip r:embed="rId56"/>
            <a:stretch/>
          </p:blipFill>
          <p:spPr>
            <a:xfrm>
              <a:off x="5694480" y="907920"/>
              <a:ext cx="11080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708520" y="92376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лан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7" name="TextBox 60"/>
          <p:cNvGrpSpPr/>
          <p:nvPr/>
        </p:nvGrpSpPr>
        <p:grpSpPr>
          <a:xfrm>
            <a:off x="6900840" y="933480"/>
            <a:ext cx="1109520" cy="279360"/>
            <a:chOff x="6900840" y="933480"/>
            <a:chExt cx="1109520" cy="279360"/>
          </a:xfrm>
        </p:grpSpPr>
        <p:pic>
          <p:nvPicPr>
            <p:cNvPr id="498" name="TextBox 60" descr=""/>
            <p:cNvPicPr/>
            <p:nvPr/>
          </p:nvPicPr>
          <p:blipFill>
            <a:blip r:embed="rId57"/>
            <a:stretch/>
          </p:blipFill>
          <p:spPr>
            <a:xfrm>
              <a:off x="6900840" y="933480"/>
              <a:ext cx="110952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6916680" y="94932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сполнение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TextBox 61"/>
          <p:cNvGrpSpPr/>
          <p:nvPr/>
        </p:nvGrpSpPr>
        <p:grpSpPr>
          <a:xfrm>
            <a:off x="8058240" y="858960"/>
            <a:ext cx="1109520" cy="426960"/>
            <a:chOff x="8058240" y="858960"/>
            <a:chExt cx="1109520" cy="426960"/>
          </a:xfrm>
        </p:grpSpPr>
        <p:pic>
          <p:nvPicPr>
            <p:cNvPr id="501" name="TextBox 61" descr=""/>
            <p:cNvPicPr/>
            <p:nvPr/>
          </p:nvPicPr>
          <p:blipFill>
            <a:blip r:embed="rId58"/>
            <a:stretch/>
          </p:blipFill>
          <p:spPr>
            <a:xfrm>
              <a:off x="8058240" y="858960"/>
              <a:ext cx="11095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8075520" y="871560"/>
              <a:ext cx="107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% исполнения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03" name="Рисунок 1" descr=""/>
          <p:cNvPicPr/>
          <p:nvPr/>
        </p:nvPicPr>
        <p:blipFill>
          <a:blip r:embed="rId59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684360" y="258840"/>
          <a:ext cx="8053200" cy="619200"/>
        </p:xfrm>
        <a:graphic>
          <a:graphicData uri="http://schemas.openxmlformats.org/drawingml/2006/table">
            <a:tbl>
              <a:tblPr/>
              <a:tblGrid>
                <a:gridCol w="8053200"/>
              </a:tblGrid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Анализ исполнения бюджета муниципального образования «Можгинский район» по расходам в разрезе отраслей за 2015 го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-15840" y="1125360"/>
          <a:ext cx="9144000" cy="5527800"/>
        </p:xfrm>
        <a:graphic>
          <a:graphicData uri="http://schemas.openxmlformats.org/drawingml/2006/table">
            <a:tbl>
              <a:tblPr/>
              <a:tblGrid>
                <a:gridCol w="801720"/>
                <a:gridCol w="2851200"/>
                <a:gridCol w="1224000"/>
                <a:gridCol w="1150920"/>
                <a:gridCol w="1081080"/>
                <a:gridCol w="934920"/>
                <a:gridCol w="1100160"/>
              </a:tblGrid>
              <a:tr h="6541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д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тверждено в первоначальном бюдж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точн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л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спол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сполнения к уточ.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дельный вес в общем объем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93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 88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 472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039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24588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1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</a:tr>
              <a:tr h="57960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8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8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</a:tr>
              <a:tr h="28872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98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 06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 03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</a:tr>
              <a:tr h="3693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33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6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</a:tr>
              <a:tr h="3891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38088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ежбюджетные трансферты бюджетам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 10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70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686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</a:tr>
              <a:tr h="370080">
                <a:tc gridSpan="2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СХОДЫ СОЦИАЛЬНОЙ НАПРА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16 592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34 527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18 338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940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 85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8 682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6 387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</a:tr>
              <a:tr h="5511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льтура, кинематография, средства массов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109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42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 40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</a:tr>
              <a:tr h="29520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522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927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0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</a:tr>
              <a:tr h="293760"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1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96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8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</a:tr>
              <a:tr h="551880">
                <a:tc>
                  <a:txBody>
                    <a:bodyPr lIns="3960" rIns="3960" tIns="39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6 178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4 11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9 10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06" name="Прямоугольник 5"/>
          <p:cNvSpPr/>
          <p:nvPr/>
        </p:nvSpPr>
        <p:spPr>
          <a:xfrm>
            <a:off x="8166960" y="-4284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лайд 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Box 1"/>
          <p:cNvSpPr/>
          <p:nvPr/>
        </p:nvSpPr>
        <p:spPr>
          <a:xfrm>
            <a:off x="8303760" y="84924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8" name="Рисунок 1" descr=""/>
          <p:cNvPicPr/>
          <p:nvPr/>
        </p:nvPicPr>
        <p:blipFill>
          <a:blip r:embed="rId78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61920" y="306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СХОДЫ СОЦИАЛЬНОЙ НАПРАВЛЕННОСТИ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839880" y="1547640"/>
          <a:ext cx="8280360" cy="4359600"/>
        </p:xfrm>
        <a:graphic>
          <a:graphicData uri="http://schemas.openxmlformats.org/drawingml/2006/table">
            <a:tbl>
              <a:tblPr/>
              <a:tblGrid>
                <a:gridCol w="1079280"/>
                <a:gridCol w="3313080"/>
                <a:gridCol w="1368720"/>
                <a:gridCol w="1366560"/>
                <a:gridCol w="1152720"/>
              </a:tblGrid>
              <a:tr h="114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 рост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сходы социальной направленности ВСЕГО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.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 2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8 33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 20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6 38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59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8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 40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59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13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05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54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2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</a:tbl>
          </a:graphicData>
        </a:graphic>
      </p:graphicFrame>
      <p:sp>
        <p:nvSpPr>
          <p:cNvPr id="511" name="TextBox 4"/>
          <p:cNvSpPr/>
          <p:nvPr/>
        </p:nvSpPr>
        <p:spPr>
          <a:xfrm>
            <a:off x="7524720" y="9669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2" name="Picture 2" descr="C:\Program Files\Microsoft Office\MEDIA\CAGCAT10\j0199036.wmf"/>
          <p:cNvPicPr/>
          <p:nvPr/>
        </p:nvPicPr>
        <p:blipFill>
          <a:blip r:embed="rId1"/>
          <a:stretch/>
        </p:blipFill>
        <p:spPr>
          <a:xfrm>
            <a:off x="1116000" y="5440320"/>
            <a:ext cx="709560" cy="473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C:\Program Files\Microsoft Office\MEDIA\CAGCAT10\j0293238.wmf"/>
          <p:cNvPicPr/>
          <p:nvPr/>
        </p:nvPicPr>
        <p:blipFill>
          <a:blip r:embed="rId2"/>
          <a:stretch/>
        </p:blipFill>
        <p:spPr>
          <a:xfrm>
            <a:off x="954000" y="4819680"/>
            <a:ext cx="865440" cy="5047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:\Documents and Settings\ОбуховаНА\Local Settings\Temporary Internet Files\Content.IE5\2F5PCY7Z\MC900430368[1].wmf"/>
          <p:cNvPicPr/>
          <p:nvPr/>
        </p:nvPicPr>
        <p:blipFill>
          <a:blip r:embed="rId3"/>
          <a:stretch/>
        </p:blipFill>
        <p:spPr>
          <a:xfrm flipH="1">
            <a:off x="868320" y="3638520"/>
            <a:ext cx="936720" cy="466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C:\Program Files\Microsoft Office\MEDIA\CAGCAT10\j0284916.jpg"/>
          <p:cNvPicPr/>
          <p:nvPr/>
        </p:nvPicPr>
        <p:blipFill>
          <a:blip r:embed="rId4"/>
          <a:stretch/>
        </p:blipFill>
        <p:spPr>
          <a:xfrm>
            <a:off x="954000" y="2730600"/>
            <a:ext cx="936720" cy="792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C:\Program Files\Microsoft Office\MEDIA\CAGCAT10\j0216588.wmf"/>
          <p:cNvPicPr/>
          <p:nvPr/>
        </p:nvPicPr>
        <p:blipFill>
          <a:blip r:embed="rId5"/>
          <a:stretch/>
        </p:blipFill>
        <p:spPr>
          <a:xfrm>
            <a:off x="919080" y="4203720"/>
            <a:ext cx="936720" cy="57456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"/>
          <p:cNvSpPr/>
          <p:nvPr/>
        </p:nvSpPr>
        <p:spPr>
          <a:xfrm>
            <a:off x="7812000" y="730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айд 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8" name="Рисунок 1" descr=""/>
          <p:cNvPicPr/>
          <p:nvPr/>
        </p:nvPicPr>
        <p:blipFill>
          <a:blip r:embed="rId6"/>
          <a:stretch/>
        </p:blipFill>
        <p:spPr>
          <a:xfrm>
            <a:off x="0" y="-17640"/>
            <a:ext cx="698400" cy="92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5:44:30Z</dcterms:created>
  <dc:creator>USER</dc:creator>
  <dc:description/>
  <dc:language>en-US</dc:language>
  <cp:lastModifiedBy>ПК</cp:lastModifiedBy>
  <cp:lastPrinted>2014-07-28T11:02:17Z</cp:lastPrinted>
  <dcterms:modified xsi:type="dcterms:W3CDTF">2016-03-01T09:31:54Z</dcterms:modified>
  <cp:revision>666</cp:revision>
  <dc:subject/>
  <dc:title>Д о к л а д</dc:title>
</cp:coreProperties>
</file>